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42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jpeg" ContentType="image/jpeg"/>
  <Override PartName="/ppt/media/image25.png" ContentType="image/png"/>
  <Override PartName="/ppt/media/image20.png" ContentType="image/png"/>
  <Override PartName="/ppt/media/image36.jpeg" ContentType="image/jpeg"/>
  <Override PartName="/ppt/media/image18.png" ContentType="image/png"/>
  <Override PartName="/ppt/media/image6.jpeg" ContentType="image/jpeg"/>
  <Override PartName="/ppt/media/image17.png" ContentType="image/png"/>
  <Override PartName="/ppt/media/image16.png" ContentType="image/png"/>
  <Override PartName="/ppt/media/image12.png" ContentType="image/png"/>
  <Override PartName="/ppt/media/image41.png" ContentType="image/png"/>
  <Override PartName="/ppt/media/image29.jpeg" ContentType="image/jpeg"/>
  <Override PartName="/ppt/media/image28.png" ContentType="image/png"/>
  <Override PartName="/ppt/media/image8.jpeg" ContentType="image/jpeg"/>
  <Override PartName="/ppt/media/image5.png" ContentType="image/png"/>
  <Override PartName="/ppt/media/image35.jpeg" ContentType="image/jpeg"/>
  <Override PartName="/ppt/media/image30.jpeg" ContentType="image/jpeg"/>
  <Override PartName="/ppt/media/image3.jpeg" ContentType="image/jpeg"/>
  <Override PartName="/ppt/media/image15.png" ContentType="image/png"/>
  <Override PartName="/ppt/media/image39.png" ContentType="image/png"/>
  <Override PartName="/ppt/media/image9.png" ContentType="image/png"/>
  <Override PartName="/ppt/media/image33.jpeg" ContentType="image/jpeg"/>
  <Override PartName="/ppt/media/image27.jpeg" ContentType="image/jpeg"/>
  <Override PartName="/ppt/media/image40.png" ContentType="image/png"/>
  <Override PartName="/ppt/media/image38.gif" ContentType="image/gif"/>
  <Override PartName="/ppt/media/image37.png" ContentType="image/png"/>
  <Override PartName="/ppt/media/image34.jpeg" ContentType="image/jpeg"/>
  <Override PartName="/ppt/media/image7.png" ContentType="image/png"/>
  <Override PartName="/ppt/media/image13.png" ContentType="image/png"/>
  <Override PartName="/ppt/media/image4.png" ContentType="image/png"/>
  <Override PartName="/ppt/media/image32.png" ContentType="image/png"/>
  <Override PartName="/ppt/media/image2.png" ContentType="image/png"/>
  <Override PartName="/ppt/media/image31.png" ContentType="image/png"/>
  <Override PartName="/ppt/media/image1.png" ContentType="image/png"/>
  <Override PartName="/ppt/media/image11.jpeg" ContentType="image/jpeg"/>
  <Override PartName="/ppt/media/image24.png" ContentType="image/png"/>
  <Override PartName="/ppt/media/image10.jpeg" ContentType="image/jpeg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42.xml" ContentType="application/vnd.openxmlformats-officedocument.presentationml.slide+xml"/>
  <Override PartName="/ppt/slides/slide4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98AA01-F34D-405F-B57A-6190001E75F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879C64-BE7A-45D6-863F-1E795AB15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523284-35AC-4F18-B284-57F96BEBC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AA61D0-F8E8-4346-BC24-A30353163D2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895FB2-1724-4D94-AA35-D7ED83DC1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B1451B-7D30-4282-8D45-1253909A4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EAE988-B810-4217-A437-ECF18F312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80F192-9D99-4D7D-9AE8-0162914F4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B83FF3-08D7-4425-8055-8F74164B9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C63A18-E76F-4D3B-AA1B-31E0D9AC2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A6AB62-AD26-409A-BEC7-82BF897CE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FADA2F-70F3-40C9-B489-F1FC897EE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3240" y="950760"/>
            <a:ext cx="9153720" cy="462240"/>
          </a:xfrm>
          <a:custGeom>
            <a:avLst/>
            <a:gdLst>
              <a:gd name="textAreaLeft" fmla="*/ 0 w 9153720"/>
              <a:gd name="textAreaRight" fmla="*/ 9154080 w 915372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A8B7A-AC7C-45E8-B591-19EB7C5A866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46ca6"/>
                  </a:solidFill>
                  <a:latin typeface="Verdana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46ca6"/>
                  </a:solidFill>
                  <a:latin typeface="Verdana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46ca6"/>
                  </a:solidFill>
                  <a:latin typeface="Verdana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46ca6"/>
                  </a:solidFill>
                  <a:latin typeface="Verdana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5600"/>
                  <a:gd name="textAreaBottom" fmla="*/ 346320 h 34560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46ca6"/>
                  </a:solidFill>
                  <a:latin typeface="Verdana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000"/>
                  <a:gd name="textAreaBottom" fmla="*/ 360720 h 36000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46ca6"/>
                  </a:solidFill>
                  <a:latin typeface="Verdana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8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8.gif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第五章  呼吸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ff0066"/>
                </a:solidFill>
                <a:latin typeface="宋体"/>
                <a:ea typeface="宋体"/>
              </a:rPr>
              <a:t>(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四</a:t>
            </a:r>
            <a:r>
              <a:rPr b="1" lang="en-US" sz="3200" spc="-1" strike="noStrike">
                <a:solidFill>
                  <a:srgbClr val="ff0066"/>
                </a:solidFill>
                <a:latin typeface="宋体"/>
                <a:ea typeface="宋体"/>
              </a:rPr>
              <a:t>)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胸膜腔和胸膜腔内压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32" name="Picture 3" descr=""/>
          <p:cNvPicPr/>
          <p:nvPr/>
        </p:nvPicPr>
        <p:blipFill>
          <a:blip r:embed="rId1"/>
          <a:stretch/>
        </p:blipFill>
        <p:spPr>
          <a:xfrm>
            <a:off x="2340000" y="1628640"/>
            <a:ext cx="4321080" cy="379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ff0066"/>
                </a:solidFill>
                <a:latin typeface="宋体"/>
                <a:ea typeface="宋体"/>
              </a:rPr>
              <a:t>胸膜腔内压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intrapleural pressure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是指胸膜腔内的压力，习惯上称为胸膜腔负压（视大气压为零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34" name="Picture 6" descr=""/>
          <p:cNvPicPr/>
          <p:nvPr/>
        </p:nvPicPr>
        <p:blipFill>
          <a:blip r:embed="rId1"/>
          <a:stretch/>
        </p:blipFill>
        <p:spPr>
          <a:xfrm>
            <a:off x="1332000" y="2367000"/>
            <a:ext cx="6769080" cy="41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AutoShape 2"/>
          <p:cNvSpPr/>
          <p:nvPr/>
        </p:nvSpPr>
        <p:spPr>
          <a:xfrm>
            <a:off x="333360" y="2214720"/>
            <a:ext cx="733320" cy="1366560"/>
          </a:xfrm>
          <a:custGeom>
            <a:avLst/>
            <a:gdLst>
              <a:gd name="textAreaLeft" fmla="*/ 98280 w 733320"/>
              <a:gd name="textAreaRight" fmla="*/ 635040 w 733320"/>
              <a:gd name="textAreaTop" fmla="*/ 239040 h 1366560"/>
              <a:gd name="textAreaBottom" fmla="*/ 990720 h 1366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36" name="AutoShape 3"/>
          <p:cNvSpPr/>
          <p:nvPr/>
        </p:nvSpPr>
        <p:spPr>
          <a:xfrm>
            <a:off x="333360" y="358632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37" name="AutoShape 4"/>
          <p:cNvSpPr/>
          <p:nvPr/>
        </p:nvSpPr>
        <p:spPr>
          <a:xfrm>
            <a:off x="304920" y="48052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38" name="AutoShape 5"/>
          <p:cNvSpPr/>
          <p:nvPr/>
        </p:nvSpPr>
        <p:spPr>
          <a:xfrm>
            <a:off x="2452680" y="55627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39" name="AutoShape 6"/>
          <p:cNvSpPr/>
          <p:nvPr/>
        </p:nvSpPr>
        <p:spPr>
          <a:xfrm rot="10825200">
            <a:off x="4114080" y="2214360"/>
            <a:ext cx="4876920" cy="3276360"/>
          </a:xfrm>
          <a:custGeom>
            <a:avLst/>
            <a:gdLst>
              <a:gd name="textAreaLeft" fmla="*/ 1015920 w 4876920"/>
              <a:gd name="textAreaRight" fmla="*/ 3861000 w 4876920"/>
              <a:gd name="textAreaTop" fmla="*/ 682560 h 3276360"/>
              <a:gd name="textAreaBottom" fmla="*/ 2593800 h 32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40" name="AutoShape 7"/>
          <p:cNvSpPr/>
          <p:nvPr/>
        </p:nvSpPr>
        <p:spPr>
          <a:xfrm rot="10825200">
            <a:off x="4495320" y="2436480"/>
            <a:ext cx="4114800" cy="2894040"/>
          </a:xfrm>
          <a:custGeom>
            <a:avLst/>
            <a:gdLst>
              <a:gd name="textAreaLeft" fmla="*/ 857160 w 4114800"/>
              <a:gd name="textAreaRight" fmla="*/ 3257640 w 4114800"/>
              <a:gd name="textAreaTop" fmla="*/ 603000 h 2894040"/>
              <a:gd name="textAreaBottom" fmla="*/ 2291400 h 2894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33996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41" name="Line 8"/>
          <p:cNvSpPr/>
          <p:nvPr/>
        </p:nvSpPr>
        <p:spPr>
          <a:xfrm>
            <a:off x="5181480" y="3809880"/>
            <a:ext cx="533520" cy="0"/>
          </a:xfrm>
          <a:prstGeom prst="line">
            <a:avLst/>
          </a:prstGeom>
          <a:ln w="7632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42" name="Line 9"/>
          <p:cNvSpPr/>
          <p:nvPr/>
        </p:nvSpPr>
        <p:spPr>
          <a:xfrm>
            <a:off x="6553080" y="2514600"/>
            <a:ext cx="0" cy="990720"/>
          </a:xfrm>
          <a:prstGeom prst="line">
            <a:avLst/>
          </a:prstGeom>
          <a:ln w="7632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43" name="Line 10"/>
          <p:cNvSpPr/>
          <p:nvPr/>
        </p:nvSpPr>
        <p:spPr>
          <a:xfrm flipH="1">
            <a:off x="7391520" y="3809880"/>
            <a:ext cx="457200" cy="0"/>
          </a:xfrm>
          <a:prstGeom prst="line">
            <a:avLst/>
          </a:prstGeom>
          <a:ln w="7632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44" name="Line 11"/>
          <p:cNvSpPr/>
          <p:nvPr/>
        </p:nvSpPr>
        <p:spPr>
          <a:xfrm flipV="1">
            <a:off x="6553080" y="3962160"/>
            <a:ext cx="0" cy="1143000"/>
          </a:xfrm>
          <a:prstGeom prst="line">
            <a:avLst/>
          </a:prstGeom>
          <a:ln w="7632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45" name="Line 12"/>
          <p:cNvSpPr/>
          <p:nvPr/>
        </p:nvSpPr>
        <p:spPr>
          <a:xfrm flipV="1">
            <a:off x="4343400" y="5181480"/>
            <a:ext cx="0" cy="533520"/>
          </a:xfrm>
          <a:prstGeom prst="line">
            <a:avLst/>
          </a:prstGeom>
          <a:ln w="7632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46" name="WordArt 13"/>
          <p:cNvSpPr txBox="1"/>
          <p:nvPr/>
        </p:nvSpPr>
        <p:spPr>
          <a:xfrm>
            <a:off x="5867280" y="3429000"/>
            <a:ext cx="13716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肺回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graphicFrame>
        <p:nvGraphicFramePr>
          <p:cNvPr id="147" name="Object 14"/>
          <p:cNvGraphicFramePr/>
          <p:nvPr/>
        </p:nvGraphicFramePr>
        <p:xfrm>
          <a:off x="3924360" y="333360"/>
          <a:ext cx="5267160" cy="148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Object 1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24360" y="333360"/>
                    <a:ext cx="5267160" cy="148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" name="Text Box 15"/>
          <p:cNvSpPr/>
          <p:nvPr/>
        </p:nvSpPr>
        <p:spPr>
          <a:xfrm>
            <a:off x="2124360" y="1981080"/>
            <a:ext cx="3079080" cy="41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以胸膜腔密闭且含浆液为条件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胸廓生长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&gt;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肺生长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胸廓容积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&gt;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肺容积  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胸廓将肺拉大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肺回缩             胸内负压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50" name="Rectangle 16"/>
          <p:cNvSpPr/>
          <p:nvPr/>
        </p:nvSpPr>
        <p:spPr>
          <a:xfrm>
            <a:off x="1600200" y="12952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51" name="Oval 17"/>
          <p:cNvSpPr/>
          <p:nvPr/>
        </p:nvSpPr>
        <p:spPr>
          <a:xfrm>
            <a:off x="533520" y="380880"/>
            <a:ext cx="3352680" cy="1447920"/>
          </a:xfrm>
          <a:prstGeom prst="ellipse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胸膜腔负压的形成</a:t>
            </a:r>
            <a:endParaRPr b="0" lang="en-US" sz="36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52" name="Oval 18"/>
          <p:cNvSpPr/>
          <p:nvPr/>
        </p:nvSpPr>
        <p:spPr>
          <a:xfrm>
            <a:off x="1447920" y="1219320"/>
            <a:ext cx="75960" cy="759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53" name="Oval 19"/>
          <p:cNvSpPr/>
          <p:nvPr/>
        </p:nvSpPr>
        <p:spPr>
          <a:xfrm>
            <a:off x="539640" y="1341360"/>
            <a:ext cx="4419720" cy="13716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54" name="Oval 20"/>
          <p:cNvSpPr/>
          <p:nvPr/>
        </p:nvSpPr>
        <p:spPr>
          <a:xfrm>
            <a:off x="0" y="457200"/>
            <a:ext cx="4267080" cy="1523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0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9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" dur="20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" dur="20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" dur="20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" dur="2000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4" dur="2000"/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252360" y="1196640"/>
            <a:ext cx="8715600" cy="25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宋体"/>
                <a:ea typeface="宋体"/>
              </a:rPr>
              <a:t>胸膜腔负压的产生原理</a:t>
            </a:r>
            <a:r>
              <a:rPr b="1" lang="en-US" sz="2800" spc="-1" strike="noStrike">
                <a:solidFill>
                  <a:srgbClr val="ff0066"/>
                </a:solidFill>
                <a:latin typeface="宋体"/>
                <a:ea typeface="宋体"/>
              </a:rPr>
              <a:t>:</a:t>
            </a:r>
            <a:r>
              <a:rPr b="1" lang="zh-CN" sz="2800" spc="-1" strike="noStrike">
                <a:solidFill>
                  <a:srgbClr val="ff0066"/>
                </a:solidFill>
                <a:latin typeface="宋体"/>
                <a:ea typeface="宋体"/>
              </a:rPr>
              <a:t>胸膜腔内压</a:t>
            </a:r>
            <a:r>
              <a:rPr b="1" lang="en-US" sz="2800" spc="-1" strike="noStrike">
                <a:solidFill>
                  <a:srgbClr val="ff0066"/>
                </a:solidFill>
                <a:latin typeface="宋体"/>
                <a:ea typeface="宋体"/>
              </a:rPr>
              <a:t>=</a:t>
            </a:r>
            <a:r>
              <a:rPr b="1" lang="zh-CN" sz="2800" spc="-1" strike="noStrike">
                <a:solidFill>
                  <a:srgbClr val="ff0066"/>
                </a:solidFill>
                <a:latin typeface="宋体"/>
                <a:ea typeface="宋体"/>
              </a:rPr>
              <a:t>肺内压</a:t>
            </a:r>
            <a:r>
              <a:rPr b="1" lang="en-US" sz="2800" spc="-1" strike="noStrike">
                <a:solidFill>
                  <a:srgbClr val="ff0066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ff0066"/>
                </a:solidFill>
                <a:latin typeface="宋体"/>
                <a:ea typeface="宋体"/>
              </a:rPr>
              <a:t>肺回缩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在吸气末或呼气末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肺内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=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大气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所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胸膜腔内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=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大气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肺回缩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=0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肺回缩力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= 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肺回缩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6" name="Picture 5" descr="胸膜腔负压的形成2"/>
          <p:cNvPicPr/>
          <p:nvPr/>
        </p:nvPicPr>
        <p:blipFill>
          <a:blip r:embed="rId1"/>
          <a:stretch/>
        </p:blipFill>
        <p:spPr>
          <a:xfrm>
            <a:off x="4932360" y="3357720"/>
            <a:ext cx="4032360" cy="31734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6" descr="胸膜腔负压的形成1"/>
          <p:cNvPicPr/>
          <p:nvPr/>
        </p:nvPicPr>
        <p:blipFill>
          <a:blip r:embed="rId2"/>
          <a:stretch/>
        </p:blipFill>
        <p:spPr>
          <a:xfrm>
            <a:off x="396720" y="2997360"/>
            <a:ext cx="4064040" cy="3454200"/>
          </a:xfrm>
          <a:prstGeom prst="rect">
            <a:avLst/>
          </a:prstGeom>
          <a:ln w="0">
            <a:noFill/>
          </a:ln>
        </p:spPr>
      </p:pic>
      <p:sp>
        <p:nvSpPr>
          <p:cNvPr id="158" name="AutoShape 7"/>
          <p:cNvSpPr/>
          <p:nvPr/>
        </p:nvSpPr>
        <p:spPr>
          <a:xfrm>
            <a:off x="4356000" y="4294080"/>
            <a:ext cx="576360" cy="720720"/>
          </a:xfrm>
          <a:prstGeom prst="rightArrow">
            <a:avLst>
              <a:gd name="adj1" fmla="val 50000"/>
              <a:gd name="adj2" fmla="val 25000"/>
            </a:avLst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0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6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3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d0000"/>
                </a:solidFill>
                <a:latin typeface="宋体"/>
                <a:ea typeface="宋体"/>
              </a:rPr>
              <a:t>胸膜腔形成原理小结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Rectangle 3"/>
          <p:cNvSpPr/>
          <p:nvPr/>
        </p:nvSpPr>
        <p:spPr>
          <a:xfrm>
            <a:off x="-33480" y="1844640"/>
            <a:ext cx="91411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肺内压                               肺回缩力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大气压）      （肺组织弹性回缩力和肺泡表面张力）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迫使脏层胸膜外移使肺扩张      迫使脏层胸膜回位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两种方向相反作用力的代数和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胸内压＝大气压＋（－肺回缩力）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胸内压＝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－肺回缩力 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61" name="Line 5"/>
          <p:cNvSpPr/>
          <p:nvPr/>
        </p:nvSpPr>
        <p:spPr>
          <a:xfrm>
            <a:off x="1332000" y="2781360"/>
            <a:ext cx="0" cy="431640"/>
          </a:xfrm>
          <a:prstGeom prst="line">
            <a:avLst/>
          </a:prstGeom>
          <a:ln w="572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62" name="Line 6"/>
          <p:cNvSpPr/>
          <p:nvPr/>
        </p:nvSpPr>
        <p:spPr>
          <a:xfrm>
            <a:off x="6732720" y="2781360"/>
            <a:ext cx="0" cy="431640"/>
          </a:xfrm>
          <a:prstGeom prst="line">
            <a:avLst/>
          </a:prstGeom>
          <a:ln w="572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63" name="Line 7"/>
          <p:cNvSpPr/>
          <p:nvPr/>
        </p:nvSpPr>
        <p:spPr>
          <a:xfrm>
            <a:off x="1763640" y="3645000"/>
            <a:ext cx="1368360" cy="863640"/>
          </a:xfrm>
          <a:prstGeom prst="line">
            <a:avLst/>
          </a:prstGeom>
          <a:ln w="572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64" name="Line 8"/>
          <p:cNvSpPr/>
          <p:nvPr/>
        </p:nvSpPr>
        <p:spPr>
          <a:xfrm flipH="1">
            <a:off x="4716360" y="3716280"/>
            <a:ext cx="1511280" cy="792360"/>
          </a:xfrm>
          <a:prstGeom prst="line">
            <a:avLst/>
          </a:prstGeom>
          <a:ln w="572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0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4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Verdana"/>
                <a:ea typeface="宋体"/>
              </a:rPr>
              <a:t>胸膜腔负压的生理意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74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1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维持肺的扩张状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并使肺随胸廓运动而被动运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2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促进静脉血和淋巴液的回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气胸的危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67" name="Picture 4" descr="qixiong"/>
          <p:cNvPicPr/>
          <p:nvPr/>
        </p:nvPicPr>
        <p:blipFill>
          <a:blip r:embed="rId1"/>
          <a:srcRect l="0" t="0" r="0" b="7942"/>
          <a:stretch/>
        </p:blipFill>
        <p:spPr>
          <a:xfrm>
            <a:off x="2854440" y="3645000"/>
            <a:ext cx="3157560" cy="2243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0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26560" y="5616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第二节  肺 通 气</a:t>
            </a:r>
            <a:r>
              <a:rPr b="0" lang="zh-CN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（</a:t>
            </a:r>
            <a:r>
              <a:rPr b="0" lang="en-US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pulmonary ventilation</a:t>
            </a:r>
            <a:r>
              <a:rPr b="0" lang="zh-CN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）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、肺通气的原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肺通气的动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70" name="Group 4"/>
          <p:cNvGrpSpPr/>
          <p:nvPr/>
        </p:nvGrpSpPr>
        <p:grpSpPr>
          <a:xfrm>
            <a:off x="4938120" y="1773360"/>
            <a:ext cx="1674360" cy="1895400"/>
            <a:chOff x="4938120" y="1773360"/>
            <a:chExt cx="1674360" cy="1895400"/>
          </a:xfrm>
        </p:grpSpPr>
        <p:sp>
          <p:nvSpPr>
            <p:cNvPr id="171" name="Text Box 5"/>
            <p:cNvSpPr/>
            <p:nvPr/>
          </p:nvSpPr>
          <p:spPr>
            <a:xfrm>
              <a:off x="4938120" y="1773360"/>
              <a:ext cx="1674360" cy="520560"/>
            </a:xfrm>
            <a:prstGeom prst="rect">
              <a:avLst/>
            </a:prstGeom>
            <a:noFill/>
            <a:ln w="93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呼吸肌舒缩活动</a:t>
              </a:r>
              <a:endParaRPr b="0" lang="en-US" sz="28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172" name="Text Box 6"/>
            <p:cNvSpPr/>
            <p:nvPr/>
          </p:nvSpPr>
          <p:spPr>
            <a:xfrm>
              <a:off x="5158440" y="3148200"/>
              <a:ext cx="820800" cy="520560"/>
            </a:xfrm>
            <a:prstGeom prst="rect">
              <a:avLst/>
            </a:prstGeom>
            <a:noFill/>
            <a:ln w="93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原动力</a:t>
              </a:r>
              <a:endParaRPr b="0" lang="en-US" sz="28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173" name="AutoShape 7"/>
            <p:cNvSpPr/>
            <p:nvPr/>
          </p:nvSpPr>
          <p:spPr>
            <a:xfrm>
              <a:off x="5545800" y="2430720"/>
              <a:ext cx="152280" cy="761760"/>
            </a:xfrm>
            <a:prstGeom prst="downArrow">
              <a:avLst>
                <a:gd name="adj1" fmla="val 50000"/>
                <a:gd name="adj2" fmla="val 125059"/>
              </a:avLst>
            </a:prstGeom>
            <a:solidFill>
              <a:srgbClr val="ffffff"/>
            </a:solidFill>
            <a:ln w="93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</p:grpSp>
      <p:grpSp>
        <p:nvGrpSpPr>
          <p:cNvPr id="174" name="Group 8"/>
          <p:cNvGrpSpPr/>
          <p:nvPr/>
        </p:nvGrpSpPr>
        <p:grpSpPr>
          <a:xfrm>
            <a:off x="4866120" y="4076640"/>
            <a:ext cx="2527560" cy="2065320"/>
            <a:chOff x="4866120" y="4076640"/>
            <a:chExt cx="2527560" cy="2065320"/>
          </a:xfrm>
        </p:grpSpPr>
        <p:sp>
          <p:nvSpPr>
            <p:cNvPr id="175" name="Text Box 9"/>
            <p:cNvSpPr/>
            <p:nvPr/>
          </p:nvSpPr>
          <p:spPr>
            <a:xfrm>
              <a:off x="4866120" y="4076640"/>
              <a:ext cx="2527560" cy="520560"/>
            </a:xfrm>
            <a:prstGeom prst="rect">
              <a:avLst/>
            </a:prstGeom>
            <a:noFill/>
            <a:ln w="93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肺内压与大气压的压力差</a:t>
              </a:r>
              <a:endParaRPr b="0" lang="en-US" sz="28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176" name="Text Box 10"/>
            <p:cNvSpPr/>
            <p:nvPr/>
          </p:nvSpPr>
          <p:spPr>
            <a:xfrm>
              <a:off x="5124600" y="5621400"/>
              <a:ext cx="1034280" cy="520560"/>
            </a:xfrm>
            <a:prstGeom prst="rect">
              <a:avLst/>
            </a:prstGeom>
            <a:noFill/>
            <a:ln w="93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直接动力</a:t>
              </a:r>
              <a:endParaRPr b="0" lang="en-US" sz="28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177" name="AutoShape 11"/>
            <p:cNvSpPr/>
            <p:nvPr/>
          </p:nvSpPr>
          <p:spPr>
            <a:xfrm>
              <a:off x="5668920" y="4815000"/>
              <a:ext cx="152280" cy="838080"/>
            </a:xfrm>
            <a:prstGeom prst="downArrow">
              <a:avLst>
                <a:gd name="adj1" fmla="val 50000"/>
                <a:gd name="adj2" fmla="val 137589"/>
              </a:avLst>
            </a:prstGeom>
            <a:solidFill>
              <a:srgbClr val="ffffff"/>
            </a:solidFill>
            <a:ln w="93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0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呼吸运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呼吸肌收缩和舒张引起的胸廓节律性扩大和缩小称为呼吸运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79" name="Picture 4" descr="呼吸运动胸廓运动的变化"/>
          <p:cNvPicPr/>
          <p:nvPr/>
        </p:nvPicPr>
        <p:blipFill>
          <a:blip r:embed="rId1"/>
          <a:stretch/>
        </p:blipFill>
        <p:spPr>
          <a:xfrm>
            <a:off x="2629080" y="2637000"/>
            <a:ext cx="439236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0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4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920"/>
            <a:ext cx="8077320" cy="41904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呼吸运动形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94920" y="1267920"/>
            <a:ext cx="604836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腹式呼吸和胸式呼吸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腹式呼吸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bdominal breathing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以膈肌舒缩活动为主的呼吸运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胸式呼吸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Thoracic breathing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以肋间外肌舒缩活动为主的呼吸运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82" name="呼气运动1.avi" descr=""/>
          <p:cNvPicPr/>
          <p:nvPr/>
        </p:nvPicPr>
        <p:blipFill>
          <a:blip r:embed="rId1"/>
          <a:stretch/>
        </p:blipFill>
        <p:spPr>
          <a:xfrm>
            <a:off x="6300720" y="1486080"/>
            <a:ext cx="2808360" cy="4822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0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0" dur="23534" fill="hold"/>
                                        <p:tgtEl>
                                          <p:spTgt spid="1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7" dur="20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0" dur="2000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3" dur="2000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6" dur="2000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9" dur="20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0" restart="whenNotActive" nodeType="interactiveSeq" fill="hold">
                <p:stCondLst>
                  <p:cond evt="onClick">
                    <p:tgtEl>
                      <p:spTgt spid="182"/>
                    </p:tgtEl>
                  </p:cond>
                </p:stCondLst>
                <p:childTnLst>
                  <p:par>
                    <p:cTn id="211" nodeType="clickEffect" fill="hold">
                      <p:stCondLst>
                        <p:cond evt="onClick">
                          <p:tgtEl>
                            <p:spTgt spid="182"/>
                          </p:tgtEl>
                        </p:cond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with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14" dur="1" fill="hold"/>
                                        <p:tgtEl>
                                          <p:spTgt spid="1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肺内压的变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人工呼吸的原理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84" name="Picture 5" descr=""/>
          <p:cNvPicPr/>
          <p:nvPr/>
        </p:nvPicPr>
        <p:blipFill>
          <a:blip r:embed="rId1"/>
          <a:stretch/>
        </p:blipFill>
        <p:spPr>
          <a:xfrm>
            <a:off x="1609560" y="2492280"/>
            <a:ext cx="592488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95280" y="275760"/>
            <a:ext cx="864072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第一节  概 述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（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Introduction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23640" y="1196640"/>
            <a:ext cx="856908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、呼吸的概念及过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" name="Rectangle 41"/>
          <p:cNvSpPr/>
          <p:nvPr/>
        </p:nvSpPr>
        <p:spPr>
          <a:xfrm>
            <a:off x="3348000" y="5541840"/>
            <a:ext cx="1843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pic>
        <p:nvPicPr>
          <p:cNvPr id="108" name="Picture 42" descr=""/>
          <p:cNvPicPr/>
          <p:nvPr/>
        </p:nvPicPr>
        <p:blipFill>
          <a:blip r:embed="rId1"/>
          <a:stretch/>
        </p:blipFill>
        <p:spPr>
          <a:xfrm>
            <a:off x="252360" y="1701720"/>
            <a:ext cx="8497800" cy="4680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" dur="2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" dur="2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宋体"/>
                <a:ea typeface="宋体"/>
              </a:rPr>
              <a:t>(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二</a:t>
            </a:r>
            <a:r>
              <a:rPr b="1" lang="en-US" sz="3200" spc="-1" strike="noStrike">
                <a:solidFill>
                  <a:srgbClr val="ff0066"/>
                </a:solidFill>
                <a:latin typeface="宋体"/>
                <a:ea typeface="宋体"/>
              </a:rPr>
              <a:t>)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肺通气的阻力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4560" y="1196640"/>
            <a:ext cx="4228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87" name="肺通气阻力图片.avi" descr=""/>
          <p:cNvPicPr/>
          <p:nvPr/>
        </p:nvPicPr>
        <p:blipFill>
          <a:blip r:embed="rId1"/>
          <a:stretch/>
        </p:blipFill>
        <p:spPr>
          <a:xfrm>
            <a:off x="1547640" y="1341360"/>
            <a:ext cx="6264360" cy="469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0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1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2" restart="whenNotActive" nodeType="interactiveSeq" fill="hold">
                <p:stCondLst>
                  <p:cond evt="onClick">
                    <p:tgtEl>
                      <p:spTgt spid="187"/>
                    </p:tgtEl>
                  </p:cond>
                </p:stCondLst>
                <p:childTnLst>
                  <p:par>
                    <p:cTn id="223" nodeType="clickEffect" fill="hold">
                      <p:stCondLst>
                        <p:cond evt="onClick">
                          <p:tgtEl>
                            <p:spTgt spid="187"/>
                          </p:tgtEl>
                        </p:cond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after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26" dur="1" fill="hold"/>
                                        <p:tgtEl>
                                          <p:spTgt spid="1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弹性阻力与顺应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弹性阻力的概念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肺的弹性阻力即肺回缩力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肺泡表面张力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/3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肺组织的弹性回缩力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/3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胸廓的弹性阻力即胸廓的弹性回位力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方向随胸廓的位置而改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顺应性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ompliance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指在外力作用下弹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组织的可扩张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容易扩张者顺应性大，不易扩张者顺应性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顺应性与弹性阻力呈反变关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非弹性阻力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呼吸道阻力和组织黏滞阻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呼吸道阻力的特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只在呼吸运动时产生：流速快、阻力大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与气体流动形式有关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③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与气道半径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次方成反比：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R∝1/r4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2"/>
          <p:cNvSpPr/>
          <p:nvPr/>
        </p:nvSpPr>
        <p:spPr>
          <a:xfrm>
            <a:off x="539640" y="1628640"/>
            <a:ext cx="8785440" cy="41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.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</a:rPr>
              <a:t>潮气量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tidal volume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：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00~600 ml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</a:rPr>
              <a:t>补吸气量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：反映吸气的储备量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500~2000 ml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深吸气量：补吸气量和潮气量之和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</a:rPr>
              <a:t>补呼气量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piratory reserve volum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RV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 ：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900 ~1200 ml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</a:rPr>
              <a:t>残气量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sidual volum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V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000 ~1500 ml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功能残气量：残气量和补呼气量之和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肺活量和用力呼气量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91" name="Rectangle 3"/>
          <p:cNvSpPr/>
          <p:nvPr/>
        </p:nvSpPr>
        <p:spPr>
          <a:xfrm>
            <a:off x="533520" y="257040"/>
            <a:ext cx="830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黑体"/>
                <a:ea typeface="黑体"/>
              </a:rPr>
              <a:t>        </a:t>
            </a:r>
            <a:r>
              <a:rPr b="1" lang="zh-CN" sz="3200" spc="-1" strike="noStrike">
                <a:solidFill>
                  <a:srgbClr val="fe6ade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ff0066"/>
                </a:solidFill>
                <a:latin typeface="黑体"/>
              </a:rPr>
              <a:t>肺通气功能的评价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92" name="Rectangle 4"/>
          <p:cNvSpPr/>
          <p:nvPr/>
        </p:nvSpPr>
        <p:spPr>
          <a:xfrm>
            <a:off x="539640" y="1125360"/>
            <a:ext cx="436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一）肺容量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0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3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6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 Box 2"/>
          <p:cNvSpPr/>
          <p:nvPr/>
        </p:nvSpPr>
        <p:spPr>
          <a:xfrm>
            <a:off x="324000" y="1270080"/>
            <a:ext cx="8386560" cy="273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</a:rPr>
              <a:t>肺活量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vital capacity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 单次肺通气的最大能力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男性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500 ml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女性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500 ml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</a:rPr>
              <a:t>用力呼气量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ced expiratory volume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V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尽力最大吸气后再尽力尽快呼气时，在一定时间内所能呼出的气量，占用力肺活量的百分数，分别称为第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秒的用力呼气量。正常人分别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％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％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9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％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左右。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3" descr=""/>
          <p:cNvPicPr/>
          <p:nvPr/>
        </p:nvPicPr>
        <p:blipFill>
          <a:blip r:embed="rId1"/>
          <a:stretch/>
        </p:blipFill>
        <p:spPr>
          <a:xfrm>
            <a:off x="209520" y="1185840"/>
            <a:ext cx="8610480" cy="51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 Box 2"/>
          <p:cNvSpPr/>
          <p:nvPr/>
        </p:nvSpPr>
        <p:spPr>
          <a:xfrm>
            <a:off x="2843280" y="404640"/>
            <a:ext cx="518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用力肺活量和用力呼气量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pic>
        <p:nvPicPr>
          <p:cNvPr id="196" name="Picture 3" descr="008"/>
          <p:cNvPicPr/>
          <p:nvPr/>
        </p:nvPicPr>
        <p:blipFill>
          <a:blip r:embed="rId1">
            <a:lum bright="-100000"/>
          </a:blip>
          <a:srcRect l="0" t="3077" r="0" b="0"/>
          <a:stretch/>
        </p:blipFill>
        <p:spPr>
          <a:xfrm>
            <a:off x="250920" y="981000"/>
            <a:ext cx="6700680" cy="5329440"/>
          </a:xfrm>
          <a:prstGeom prst="rect">
            <a:avLst/>
          </a:prstGeom>
          <a:ln w="0">
            <a:noFill/>
          </a:ln>
        </p:spPr>
      </p:pic>
      <p:sp>
        <p:nvSpPr>
          <p:cNvPr id="197" name="Text Box 4"/>
          <p:cNvSpPr/>
          <p:nvPr/>
        </p:nvSpPr>
        <p:spPr>
          <a:xfrm>
            <a:off x="2627280" y="1125360"/>
            <a:ext cx="23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6ec"/>
                </a:solidFill>
                <a:latin typeface="Times New Roman"/>
              </a:rPr>
              <a:t>生理情况下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98" name="Text Box 5"/>
          <p:cNvSpPr/>
          <p:nvPr/>
        </p:nvSpPr>
        <p:spPr>
          <a:xfrm>
            <a:off x="2484360" y="3860640"/>
            <a:ext cx="245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6ec"/>
                </a:solidFill>
                <a:latin typeface="Times New Roman"/>
              </a:rPr>
              <a:t>气道狭窄时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99" name="Rectangle 7"/>
          <p:cNvSpPr/>
          <p:nvPr/>
        </p:nvSpPr>
        <p:spPr>
          <a:xfrm>
            <a:off x="5940360" y="1413000"/>
            <a:ext cx="2808360" cy="1689480"/>
          </a:xfrm>
          <a:prstGeom prst="rect">
            <a:avLst/>
          </a:prstGeom>
          <a:solidFill>
            <a:srgbClr val="8ac8de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</a:rPr>
              <a:t>第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</a:rPr>
              <a:t>秒末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: 83%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</a:rPr>
              <a:t>第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</a:rPr>
              <a:t>秒末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: 96%     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</a:rPr>
              <a:t>第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</a:rPr>
              <a:t>秒末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: 99%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0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6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9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ext Box 3"/>
          <p:cNvSpPr/>
          <p:nvPr/>
        </p:nvSpPr>
        <p:spPr>
          <a:xfrm>
            <a:off x="179280" y="1341360"/>
            <a:ext cx="9001080" cy="353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每分通气量和最大通气量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</a:rPr>
              <a:t>每分通气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inute ventilation volume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)   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V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×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频率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~9 L/m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 baseline="30000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基础状态下）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</a:rPr>
              <a:t>最大通气量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 ~120 L/mi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贮备力）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通气贮量百分比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=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100%</a:t>
            </a:r>
            <a:r>
              <a:rPr b="1" lang="en-US" sz="3000" spc="-1" strike="noStrike">
                <a:solidFill>
                  <a:srgbClr val="000066"/>
                </a:solidFill>
                <a:latin typeface="Times New Roman"/>
              </a:rPr>
              <a:t>                                </a:t>
            </a:r>
            <a:endParaRPr b="0" lang="en-US" sz="3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01" name="Line 4"/>
          <p:cNvSpPr/>
          <p:nvPr/>
        </p:nvSpPr>
        <p:spPr>
          <a:xfrm>
            <a:off x="3995640" y="4633920"/>
            <a:ext cx="3605400" cy="1908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02" name="Rectangle 5"/>
          <p:cNvSpPr/>
          <p:nvPr/>
        </p:nvSpPr>
        <p:spPr>
          <a:xfrm>
            <a:off x="4696920" y="4125960"/>
            <a:ext cx="2171160" cy="5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66"/>
                </a:solidFill>
                <a:latin typeface="Arial"/>
              </a:rPr>
              <a:t>最大通气量 － 每分通气量</a:t>
            </a:r>
            <a:endParaRPr b="0" lang="en-US" sz="2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03" name="Rectangle 6"/>
          <p:cNvSpPr/>
          <p:nvPr/>
        </p:nvSpPr>
        <p:spPr>
          <a:xfrm>
            <a:off x="4692960" y="4602240"/>
            <a:ext cx="1524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66"/>
                </a:solidFill>
                <a:latin typeface="Arial"/>
              </a:rPr>
              <a:t>      </a:t>
            </a:r>
            <a:r>
              <a:rPr b="1" lang="zh-CN" sz="2200" spc="-1" strike="noStrike">
                <a:solidFill>
                  <a:srgbClr val="000066"/>
                </a:solidFill>
                <a:latin typeface="Arial"/>
              </a:rPr>
              <a:t>最大通气量</a:t>
            </a:r>
            <a:endParaRPr b="0" lang="en-US" sz="2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1619280" y="5013360"/>
            <a:ext cx="3168720" cy="6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正常：等于或﹥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93%</a:t>
            </a:r>
            <a:endParaRPr b="0" lang="en-US" sz="26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05" name="Rectangle 8"/>
          <p:cNvSpPr/>
          <p:nvPr/>
        </p:nvSpPr>
        <p:spPr>
          <a:xfrm>
            <a:off x="755640" y="333360"/>
            <a:ext cx="792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（二）肺通气量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0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3168360" y="3890880"/>
            <a:ext cx="4978440" cy="5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肺泡无效腔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接近于零）</a:t>
            </a:r>
            <a:r>
              <a:rPr b="1" lang="zh-CN" sz="2000" spc="-1" strike="noStrike">
                <a:solidFill>
                  <a:srgbClr val="660066"/>
                </a:solidFill>
                <a:latin typeface="宋体"/>
                <a:ea typeface="宋体"/>
              </a:rPr>
              <a:t> </a:t>
            </a:r>
            <a:r>
              <a:rPr b="0" lang="zh-CN" sz="2000" spc="-1" strike="noStrike">
                <a:solidFill>
                  <a:srgbClr val="660066"/>
                </a:solidFill>
                <a:latin typeface="宋体"/>
                <a:ea typeface="宋体"/>
              </a:rPr>
              <a:t>                         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7" name="Rectangle 4"/>
          <p:cNvSpPr/>
          <p:nvPr/>
        </p:nvSpPr>
        <p:spPr>
          <a:xfrm>
            <a:off x="468360" y="3244680"/>
            <a:ext cx="2484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生理无效腔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3132000" y="2781360"/>
            <a:ext cx="38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解剖无效腔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50ml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09" name="Rectangle 6"/>
          <p:cNvSpPr/>
          <p:nvPr/>
        </p:nvSpPr>
        <p:spPr>
          <a:xfrm>
            <a:off x="900000" y="4581360"/>
            <a:ext cx="7004160" cy="16894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支气管扩张       解剖无效腔↑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部分梗塞      肺泡无效腔↑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buClr>
                <a:srgbClr val="ddb523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10" name="Line 7"/>
          <p:cNvSpPr/>
          <p:nvPr/>
        </p:nvSpPr>
        <p:spPr>
          <a:xfrm>
            <a:off x="3060720" y="4726080"/>
            <a:ext cx="838080" cy="0"/>
          </a:xfrm>
          <a:prstGeom prst="line">
            <a:avLst/>
          </a:prstGeom>
          <a:ln w="63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11" name="Line 8"/>
          <p:cNvSpPr/>
          <p:nvPr/>
        </p:nvSpPr>
        <p:spPr>
          <a:xfrm>
            <a:off x="3060720" y="5302080"/>
            <a:ext cx="838080" cy="0"/>
          </a:xfrm>
          <a:prstGeom prst="line">
            <a:avLst/>
          </a:prstGeom>
          <a:ln w="63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12" name="AutoShape 9"/>
          <p:cNvSpPr/>
          <p:nvPr/>
        </p:nvSpPr>
        <p:spPr>
          <a:xfrm>
            <a:off x="3124080" y="2057400"/>
            <a:ext cx="152640" cy="1219320"/>
          </a:xfrm>
          <a:custGeom>
            <a:avLst/>
            <a:gdLst>
              <a:gd name="textAreaLeft" fmla="*/ 97560 w 152640"/>
              <a:gd name="textAreaRight" fmla="*/ 153000 w 15264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13" name="AutoShape 10"/>
          <p:cNvSpPr/>
          <p:nvPr/>
        </p:nvSpPr>
        <p:spPr>
          <a:xfrm>
            <a:off x="2916360" y="2951280"/>
            <a:ext cx="152280" cy="1295280"/>
          </a:xfrm>
          <a:custGeom>
            <a:avLst/>
            <a:gdLst>
              <a:gd name="textAreaLeft" fmla="*/ 97200 w 152280"/>
              <a:gd name="textAreaRight" fmla="*/ 152640 w 15228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9966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14" name="Text Box 17"/>
          <p:cNvSpPr/>
          <p:nvPr/>
        </p:nvSpPr>
        <p:spPr>
          <a:xfrm>
            <a:off x="376200" y="1287360"/>
            <a:ext cx="7724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肺泡通气量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每分钟吸入肺泡的新鲜空气量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=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V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－ 无效腔气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) ×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频率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0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20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20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9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611280" y="1122480"/>
            <a:ext cx="7772400" cy="56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为什么浅而快的呼吸对机体不利</a:t>
            </a:r>
            <a:r>
              <a:rPr b="0" lang="en-US" sz="2800" spc="-1" strike="noStrike">
                <a:solidFill>
                  <a:srgbClr val="ffffff"/>
                </a:solidFill>
                <a:latin typeface="宋体"/>
                <a:ea typeface="宋体"/>
              </a:rPr>
              <a:t>?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不同呼吸频率和潮气量时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肺通气量和肺泡通气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6" name="Line 3"/>
          <p:cNvSpPr/>
          <p:nvPr/>
        </p:nvSpPr>
        <p:spPr>
          <a:xfrm>
            <a:off x="755640" y="2709720"/>
            <a:ext cx="7632720" cy="0"/>
          </a:xfrm>
          <a:prstGeom prst="line">
            <a:avLst/>
          </a:prstGeom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17" name="Line 4"/>
          <p:cNvSpPr/>
          <p:nvPr/>
        </p:nvSpPr>
        <p:spPr>
          <a:xfrm>
            <a:off x="826920" y="3933720"/>
            <a:ext cx="7632720" cy="0"/>
          </a:xfrm>
          <a:prstGeom prst="line">
            <a:avLst/>
          </a:prstGeom>
          <a:ln w="1908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18" name="Line 5"/>
          <p:cNvSpPr/>
          <p:nvPr/>
        </p:nvSpPr>
        <p:spPr>
          <a:xfrm>
            <a:off x="900000" y="5734080"/>
            <a:ext cx="7632720" cy="0"/>
          </a:xfrm>
          <a:prstGeom prst="line">
            <a:avLst/>
          </a:prstGeom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19" name="Text Box 6"/>
          <p:cNvSpPr/>
          <p:nvPr/>
        </p:nvSpPr>
        <p:spPr>
          <a:xfrm>
            <a:off x="900000" y="292428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黑体"/>
              </a:rPr>
              <a:t>呼吸频率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20" name="Text Box 7"/>
          <p:cNvSpPr/>
          <p:nvPr/>
        </p:nvSpPr>
        <p:spPr>
          <a:xfrm>
            <a:off x="2700360" y="292428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黑体"/>
              </a:rPr>
              <a:t>潮气量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21" name="Text Box 8"/>
          <p:cNvSpPr/>
          <p:nvPr/>
        </p:nvSpPr>
        <p:spPr>
          <a:xfrm>
            <a:off x="4356000" y="292428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黑体"/>
              </a:rPr>
              <a:t>肺通气量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22" name="Text Box 9"/>
          <p:cNvSpPr/>
          <p:nvPr/>
        </p:nvSpPr>
        <p:spPr>
          <a:xfrm>
            <a:off x="6227640" y="292428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黑体"/>
              </a:rPr>
              <a:t>肺泡通气量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23" name="Text Box 10"/>
          <p:cNvSpPr/>
          <p:nvPr/>
        </p:nvSpPr>
        <p:spPr>
          <a:xfrm>
            <a:off x="971640" y="3500280"/>
            <a:ext cx="712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</a:rPr>
              <a:t>次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/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</a:rPr>
              <a:t>分钟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)          (ml )            (ml /min )        (ml /min )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24" name="Text Box 11"/>
          <p:cNvSpPr/>
          <p:nvPr/>
        </p:nvSpPr>
        <p:spPr>
          <a:xfrm>
            <a:off x="971640" y="4221000"/>
            <a:ext cx="70563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12                 500                 6000                 4200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6                 1000                 6000                 5100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24                250                  6000                 2400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nodeType="clickEffect" fill="hold">
                      <p:stCondLst>
                        <p:cond delay="0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7" dur="5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1" dur="500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5" dur="500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Verdana"/>
                <a:ea typeface="宋体"/>
              </a:rPr>
              <a:t>二、呼吸器官的结构特点和功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52360" y="1341360"/>
            <a:ext cx="8610480" cy="512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呼吸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1" name="Picture 5" descr="呼吸道结构"/>
          <p:cNvPicPr/>
          <p:nvPr/>
        </p:nvPicPr>
        <p:blipFill>
          <a:blip r:embed="rId1"/>
          <a:stretch/>
        </p:blipFill>
        <p:spPr>
          <a:xfrm>
            <a:off x="179280" y="1773360"/>
            <a:ext cx="4392720" cy="39607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6" descr="气管分级"/>
          <p:cNvPicPr/>
          <p:nvPr/>
        </p:nvPicPr>
        <p:blipFill>
          <a:blip r:embed="rId2"/>
          <a:srcRect l="0" t="0" r="0" b="12035"/>
          <a:stretch/>
        </p:blipFill>
        <p:spPr>
          <a:xfrm>
            <a:off x="4572000" y="1557360"/>
            <a:ext cx="426708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0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第三节  肺换气和组织换气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26" name="呼吸的3个环节.avi" descr=""/>
          <p:cNvPicPr/>
          <p:nvPr/>
        </p:nvPicPr>
        <p:blipFill>
          <a:blip r:embed="rId1"/>
          <a:stretch/>
        </p:blipFill>
        <p:spPr>
          <a:xfrm>
            <a:off x="4356000" y="1484280"/>
            <a:ext cx="4654800" cy="4703760"/>
          </a:xfrm>
          <a:prstGeom prst="rect">
            <a:avLst/>
          </a:prstGeom>
          <a:ln w="0">
            <a:noFill/>
          </a:ln>
        </p:spPr>
      </p:pic>
      <p:sp>
        <p:nvSpPr>
          <p:cNvPr id="227" name="Rectangle 6"/>
          <p:cNvSpPr/>
          <p:nvPr/>
        </p:nvSpPr>
        <p:spPr>
          <a:xfrm>
            <a:off x="250920" y="2363760"/>
            <a:ext cx="4392360" cy="445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"/>
              </a:rPr>
              <a:t>肺换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肺泡与肺毛细血管血液之间的气体交换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"/>
              </a:rPr>
              <a:t>组织换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组织细胞与组织毛细血管血液之间的气体交换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nodeType="clickEffect" fill="hold">
                      <p:stCondLst>
                        <p:cond delay="0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1" dur="23000" fill="hold"/>
                                        <p:tgtEl>
                                          <p:spTgt spid="2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2" restart="whenNotActive" nodeType="interactiveSeq" fill="hold">
                <p:stCondLst>
                  <p:cond evt="onClick">
                    <p:tgtEl>
                      <p:spTgt spid="226"/>
                    </p:tgtEl>
                  </p:cond>
                </p:stCondLst>
                <p:childTnLst>
                  <p:par>
                    <p:cTn id="323" nodeType="clickEffect" fill="hold">
                      <p:stCondLst>
                        <p:cond evt="onClick">
                          <p:tgtEl>
                            <p:spTgt spid="226"/>
                          </p:tgtEl>
                        </p:cond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26" dur="1" fill="hold"/>
                                        <p:tgtEl>
                                          <p:spTgt spid="2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Verdana"/>
                <a:ea typeface="宋体"/>
              </a:rPr>
              <a:t>一、气体交换的原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04920" y="1053720"/>
            <a:ext cx="861048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气体分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30" name="Picture 5" descr=""/>
          <p:cNvPicPr/>
          <p:nvPr/>
        </p:nvPicPr>
        <p:blipFill>
          <a:blip r:embed="rId1"/>
          <a:stretch/>
        </p:blipFill>
        <p:spPr>
          <a:xfrm>
            <a:off x="380880" y="2719440"/>
            <a:ext cx="8382240" cy="14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气体扩散速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在相同的气体分压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2" name="Text Box 7"/>
          <p:cNvSpPr/>
          <p:nvPr/>
        </p:nvSpPr>
        <p:spPr>
          <a:xfrm>
            <a:off x="396720" y="4365720"/>
            <a:ext cx="849636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↓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↑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时，刺激呼吸，有助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O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排出，却几乎无助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摄取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3" name="Object 4"/>
              <p:cNvSpPr txBox="1"/>
              <p:nvPr/>
            </p:nvSpPr>
            <p:spPr>
              <a:xfrm>
                <a:off x="847800" y="3032280"/>
                <a:ext cx="7500960" cy="79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扩散速率</m:t>
                        </m:r>
                      </m:num>
                      <m:den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扩散速率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sSub>
                              <m:e>
                                <m:r>
                                  <m:t xml:space="preserve">o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分子量</m:t>
                            </m:r>
                          </m:e>
                        </m:rad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分子量</m:t>
                            </m:r>
                          </m:e>
                        </m:rad>
                      </m:den>
                    </m:f>
                    <m:r>
                      <m:t xml:space="preserve">×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溶解度</m:t>
                        </m:r>
                      </m:num>
                      <m:den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溶解度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2</m:t>
                            </m:r>
                          </m:e>
                        </m:rad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44</m:t>
                            </m:r>
                          </m:e>
                        </m:rad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92</m:t>
                        </m:r>
                      </m:num>
                      <m:den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244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6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3"/>
          <p:cNvSpPr/>
          <p:nvPr/>
        </p:nvSpPr>
        <p:spPr>
          <a:xfrm>
            <a:off x="0" y="1905120"/>
            <a:ext cx="41911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结构基础：呼吸膜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动力：气体的分压差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0" y="342900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静脉血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动脉血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36" name="Line 5"/>
          <p:cNvSpPr/>
          <p:nvPr/>
        </p:nvSpPr>
        <p:spPr>
          <a:xfrm>
            <a:off x="1332000" y="3718080"/>
            <a:ext cx="1143000" cy="0"/>
          </a:xfrm>
          <a:prstGeom prst="line">
            <a:avLst/>
          </a:prstGeom>
          <a:ln w="63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pic>
        <p:nvPicPr>
          <p:cNvPr id="237" name="Picture 6" descr="肺泡气体交换2"/>
          <p:cNvPicPr/>
          <p:nvPr/>
        </p:nvPicPr>
        <p:blipFill>
          <a:blip r:embed="rId1"/>
          <a:stretch/>
        </p:blipFill>
        <p:spPr>
          <a:xfrm>
            <a:off x="228600" y="4191120"/>
            <a:ext cx="3809880" cy="2286000"/>
          </a:xfrm>
          <a:prstGeom prst="rect">
            <a:avLst/>
          </a:prstGeom>
          <a:ln w="0">
            <a:noFill/>
          </a:ln>
        </p:spPr>
      </p:pic>
      <p:sp>
        <p:nvSpPr>
          <p:cNvPr id="238" name="Rectangle 7"/>
          <p:cNvSpPr/>
          <p:nvPr/>
        </p:nvSpPr>
        <p:spPr>
          <a:xfrm>
            <a:off x="1773360" y="1085760"/>
            <a:ext cx="30960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pic>
        <p:nvPicPr>
          <p:cNvPr id="239" name="Picture 10" descr="肺换气1"/>
          <p:cNvPicPr/>
          <p:nvPr/>
        </p:nvPicPr>
        <p:blipFill>
          <a:blip r:embed="rId2"/>
          <a:stretch/>
        </p:blipFill>
        <p:spPr>
          <a:xfrm>
            <a:off x="4140360" y="1054080"/>
            <a:ext cx="4752720" cy="532764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8"/>
          <p:cNvSpPr/>
          <p:nvPr/>
        </p:nvSpPr>
        <p:spPr>
          <a:xfrm>
            <a:off x="973080" y="404640"/>
            <a:ext cx="78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二、肺换气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0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3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7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1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5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（一）肺换气的过程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42" name="Picture 3" descr=""/>
          <p:cNvPicPr/>
          <p:nvPr/>
        </p:nvPicPr>
        <p:blipFill>
          <a:blip r:embed="rId1"/>
          <a:stretch/>
        </p:blipFill>
        <p:spPr>
          <a:xfrm>
            <a:off x="324000" y="888840"/>
            <a:ext cx="8424720" cy="563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Text Box 2"/>
          <p:cNvSpPr/>
          <p:nvPr/>
        </p:nvSpPr>
        <p:spPr>
          <a:xfrm>
            <a:off x="1022400" y="260280"/>
            <a:ext cx="82296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（二）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影响肺换气的因素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44" name="Text Box 8"/>
          <p:cNvSpPr/>
          <p:nvPr/>
        </p:nvSpPr>
        <p:spPr>
          <a:xfrm>
            <a:off x="158760" y="1482840"/>
            <a:ext cx="7726320" cy="14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膜的厚度和面积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约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2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0μm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pic>
        <p:nvPicPr>
          <p:cNvPr id="245" name="Picture 9" descr=""/>
          <p:cNvPicPr/>
          <p:nvPr/>
        </p:nvPicPr>
        <p:blipFill>
          <a:blip r:embed="rId1"/>
          <a:stretch/>
        </p:blipFill>
        <p:spPr>
          <a:xfrm>
            <a:off x="304920" y="2349360"/>
            <a:ext cx="7580160" cy="4114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0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2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3"/>
          <p:cNvSpPr/>
          <p:nvPr/>
        </p:nvSpPr>
        <p:spPr>
          <a:xfrm>
            <a:off x="0" y="1486080"/>
            <a:ext cx="4572000" cy="36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膜的面积 ≈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0m</a:t>
            </a:r>
            <a:r>
              <a:rPr b="1" lang="en-US" sz="2800" spc="-1" strike="noStrike" baseline="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平静呼吸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=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0m</a:t>
            </a:r>
            <a:r>
              <a:rPr b="1" lang="en-US" sz="2800" spc="-1" strike="noStrike" baseline="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贮备面积 ≈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0m</a:t>
            </a:r>
            <a:r>
              <a:rPr b="1" lang="en-US" sz="2800" spc="-1" strike="noStrike" baseline="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肺实变、肺气肿及肺不张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膜面积减小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pic>
        <p:nvPicPr>
          <p:cNvPr id="247" name="Picture 9" descr="xh141"/>
          <p:cNvPicPr/>
          <p:nvPr/>
        </p:nvPicPr>
        <p:blipFill>
          <a:blip r:embed="rId1"/>
          <a:srcRect l="54239" t="4199" r="0" b="2423"/>
          <a:stretch/>
        </p:blipFill>
        <p:spPr>
          <a:xfrm>
            <a:off x="4211640" y="1268280"/>
            <a:ext cx="4284720" cy="511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通气血流比值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Ventilation/perfusion ratio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每分肺泡通气量与每分钟肺毛细血管血流量之间的比值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0.84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49" name="Picture 12" descr="通气血流比值1"/>
          <p:cNvPicPr/>
          <p:nvPr/>
        </p:nvPicPr>
        <p:blipFill>
          <a:blip r:embed="rId1"/>
          <a:stretch/>
        </p:blipFill>
        <p:spPr>
          <a:xfrm>
            <a:off x="2556000" y="2494080"/>
            <a:ext cx="4249440" cy="34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4360" y="-239760"/>
            <a:ext cx="77724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0066"/>
                </a:solidFill>
                <a:latin typeface="Verdana"/>
                <a:ea typeface="宋体"/>
              </a:rPr>
              <a:t>通气</a:t>
            </a:r>
            <a:r>
              <a:rPr b="1" lang="en-US" sz="3200" spc="-1" strike="noStrike">
                <a:solidFill>
                  <a:srgbClr val="ff0066"/>
                </a:solidFill>
                <a:latin typeface="Verdana"/>
                <a:ea typeface="宋体"/>
              </a:rPr>
              <a:t>/</a:t>
            </a:r>
            <a:r>
              <a:rPr b="1" lang="zh-CN" sz="3200" spc="-1" strike="noStrike">
                <a:solidFill>
                  <a:srgbClr val="ff0066"/>
                </a:solidFill>
                <a:latin typeface="Verdana"/>
                <a:ea typeface="宋体"/>
              </a:rPr>
              <a:t>血流比值改变的影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51" name="Picture 4" descr=""/>
          <p:cNvPicPr/>
          <p:nvPr/>
        </p:nvPicPr>
        <p:blipFill>
          <a:blip r:embed="rId1"/>
          <a:stretch/>
        </p:blipFill>
        <p:spPr>
          <a:xfrm>
            <a:off x="1403280" y="836640"/>
            <a:ext cx="6278760" cy="590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nodeType="clickEffect" fill="hold">
                      <p:stCondLst>
                        <p:cond delay="0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第四节  </a:t>
            </a:r>
            <a:r>
              <a:rPr b="1" lang="zh-CN" sz="3200" spc="-1" strike="noStrike">
                <a:solidFill>
                  <a:srgbClr val="ff0066"/>
                </a:solidFill>
                <a:latin typeface="Verdana"/>
                <a:ea typeface="宋体"/>
              </a:rPr>
              <a:t>气体在血液中的运输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、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运输：物理溶解和化学结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一）血红蛋白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结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血液中的氧主要以氧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b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形式运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迅速而可逆、不需要酶催化、受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压的影响        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氧合而非氧化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发绀：去氧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＞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0 g /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红细胞增多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O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中毒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54" name="Picture 4" descr=""/>
          <p:cNvPicPr/>
          <p:nvPr/>
        </p:nvPicPr>
        <p:blipFill>
          <a:blip r:embed="rId1"/>
          <a:stretch/>
        </p:blipFill>
        <p:spPr>
          <a:xfrm>
            <a:off x="3132000" y="2854440"/>
            <a:ext cx="2962440" cy="93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Verdana"/>
                <a:ea typeface="宋体"/>
              </a:rPr>
              <a:t>呼吸道平滑肌舒缩活动的调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自主神经的调节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迷走神经兴奋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ch+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→收缩→阻力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交感神经兴奋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N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+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β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→舒张→阻力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体液因素的调节：组胺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羟色胺、内皮素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血管活性肠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子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可结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子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2800" spc="-1" strike="noStrike">
                <a:solidFill>
                  <a:srgbClr val="1d1496"/>
                </a:solidFill>
                <a:latin typeface="Times New Roman"/>
                <a:ea typeface="宋体"/>
              </a:rPr>
              <a:t>Hb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氧容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xygen capacity of Hb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升血液中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所能结合的最大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量。取决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浓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en-US" sz="2800" spc="-1" strike="noStrike">
                <a:solidFill>
                  <a:srgbClr val="1d1496"/>
                </a:solidFill>
                <a:latin typeface="Times New Roman"/>
                <a:ea typeface="宋体"/>
              </a:rPr>
              <a:t>Hb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氧含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xygen content of Hb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升血液中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实际结合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量。取决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2800" spc="-1" strike="noStrike">
                <a:solidFill>
                  <a:srgbClr val="1d1496"/>
                </a:solidFill>
                <a:latin typeface="Times New Roman"/>
                <a:ea typeface="宋体"/>
              </a:rPr>
              <a:t>Hb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氧饱和度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(Oxygensaturation of Hb)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7720" y="5616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（二）氧解离曲线及其影响因素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304920" y="1197000"/>
            <a:ext cx="8610480" cy="505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氧解离曲线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是显示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O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血氧饱和度关系的曲线，表示不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O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结合的情况或是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HbO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解离情况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258" name="Group 6"/>
          <p:cNvGrpSpPr/>
          <p:nvPr/>
        </p:nvGrpSpPr>
        <p:grpSpPr>
          <a:xfrm>
            <a:off x="1619280" y="2152800"/>
            <a:ext cx="5544720" cy="4676040"/>
            <a:chOff x="1619280" y="2152800"/>
            <a:chExt cx="5544720" cy="4676040"/>
          </a:xfrm>
        </p:grpSpPr>
        <p:pic>
          <p:nvPicPr>
            <p:cNvPr id="259" name="Picture 4" descr="未命名6"/>
            <p:cNvPicPr/>
            <p:nvPr/>
          </p:nvPicPr>
          <p:blipFill>
            <a:blip r:embed="rId1"/>
            <a:stretch/>
          </p:blipFill>
          <p:spPr>
            <a:xfrm>
              <a:off x="2302920" y="2152800"/>
              <a:ext cx="4861080" cy="410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0" name="Text Box 5"/>
            <p:cNvSpPr/>
            <p:nvPr/>
          </p:nvSpPr>
          <p:spPr>
            <a:xfrm rot="16200000">
              <a:off x="-34200" y="4087800"/>
              <a:ext cx="376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Hb</a:t>
              </a:r>
              <a:r>
                <a:rPr b="1" lang="zh-CN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氧饱和度（％）</a:t>
              </a:r>
              <a:endParaRPr b="0" lang="en-US" sz="24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261" name="Text Box 6"/>
            <p:cNvSpPr/>
            <p:nvPr/>
          </p:nvSpPr>
          <p:spPr>
            <a:xfrm>
              <a:off x="4146840" y="6289560"/>
              <a:ext cx="2514240" cy="53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P</a:t>
              </a:r>
              <a:r>
                <a:rPr b="1" lang="en-US" sz="2400" spc="-1" strike="noStrike" baseline="-25000">
                  <a:solidFill>
                    <a:srgbClr val="046ca6"/>
                  </a:solidFill>
                  <a:latin typeface="楷体_GB2312"/>
                  <a:ea typeface="楷体_GB2312"/>
                </a:rPr>
                <a:t>O</a:t>
              </a:r>
              <a:r>
                <a:rPr b="1" lang="en-US" sz="1800" spc="-1" strike="noStrike" baseline="-50000">
                  <a:solidFill>
                    <a:srgbClr val="046ca6"/>
                  </a:solidFill>
                  <a:latin typeface="楷体_GB2312"/>
                  <a:ea typeface="楷体_GB2312"/>
                </a:rPr>
                <a:t>2</a:t>
              </a:r>
              <a:r>
                <a:rPr b="1" lang="zh-CN" sz="18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（</a:t>
              </a:r>
              <a:r>
                <a:rPr b="1" lang="en-US" sz="18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mmHg</a:t>
              </a:r>
              <a:r>
                <a:rPr b="1" lang="zh-CN" sz="18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）</a:t>
              </a:r>
              <a:endParaRPr b="0" lang="en-US" sz="1800" spc="-1" strike="noStrike">
                <a:solidFill>
                  <a:srgbClr val="046ca6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2"/>
          <p:cNvSpPr/>
          <p:nvPr/>
        </p:nvSpPr>
        <p:spPr>
          <a:xfrm>
            <a:off x="0" y="1413000"/>
            <a:ext cx="4572000" cy="39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氧解离曲线的上段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在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在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60~100mm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这个范围内，是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与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结合的部分。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特点：较平坦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表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变化对氧饱和度影响不大。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pic>
        <p:nvPicPr>
          <p:cNvPr id="263" name="Picture 7" descr="未命名8"/>
          <p:cNvPicPr/>
          <p:nvPr/>
        </p:nvPicPr>
        <p:blipFill>
          <a:blip r:embed="rId1"/>
          <a:stretch/>
        </p:blipFill>
        <p:spPr>
          <a:xfrm>
            <a:off x="4716360" y="1773360"/>
            <a:ext cx="3961080" cy="3790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/>
          </p:nvPr>
        </p:nvSpPr>
        <p:spPr>
          <a:xfrm>
            <a:off x="324000" y="1557000"/>
            <a:ext cx="4410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氧解离曲线中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0 ~ 60 mmH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范围内，是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b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释放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的部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800" spc="-1" strike="noStrike">
                <a:solidFill>
                  <a:srgbClr val="1d1496"/>
                </a:solidFill>
                <a:latin typeface="Times New Roman"/>
                <a:ea typeface="宋体"/>
              </a:rPr>
              <a:t>特点：较陡直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表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下降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b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释放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65" name="Picture 4" descr="未命名7"/>
          <p:cNvPicPr/>
          <p:nvPr/>
        </p:nvPicPr>
        <p:blipFill>
          <a:blip r:embed="rId1"/>
          <a:stretch/>
        </p:blipFill>
        <p:spPr>
          <a:xfrm>
            <a:off x="4645080" y="1628640"/>
            <a:ext cx="4032360" cy="38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/>
          </p:nvPr>
        </p:nvSpPr>
        <p:spPr>
          <a:xfrm>
            <a:off x="304920" y="1270080"/>
            <a:ext cx="8540640" cy="45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当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= 40mm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混合静脉血），氧饱和度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=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75%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氧含量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44ml/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，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=100mm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动脉血），氧饱和度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=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98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氧含量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94ml /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L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，表明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00 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动脉血流经组织时，释放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0 ml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供组织利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ff0066"/>
                </a:solidFill>
                <a:latin typeface="宋体"/>
                <a:ea typeface="宋体"/>
              </a:rPr>
              <a:t>生理意义：血液流经</a:t>
            </a:r>
            <a:r>
              <a:rPr b="1" lang="zh-CN" sz="2800" spc="-1" strike="noStrike">
                <a:solidFill>
                  <a:srgbClr val="ff0066"/>
                </a:solidFill>
                <a:latin typeface="宋体"/>
                <a:ea typeface="宋体"/>
              </a:rPr>
              <a:t>PO2</a:t>
            </a:r>
            <a:r>
              <a:rPr b="1" lang="zh-CN" sz="2800" spc="-1" strike="noStrike">
                <a:solidFill>
                  <a:srgbClr val="ff0066"/>
                </a:solidFill>
                <a:latin typeface="宋体"/>
                <a:ea typeface="宋体"/>
              </a:rPr>
              <a:t>较低的组织时可释放适的氧，供安静状态下组织代谢的需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氧解离曲线下段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5 ~ 40mm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这个范围内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b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解离的部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特点：最陡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68" name="Picture 4" descr="未命名9"/>
          <p:cNvPicPr/>
          <p:nvPr/>
        </p:nvPicPr>
        <p:blipFill>
          <a:blip r:embed="rId1"/>
          <a:stretch/>
        </p:blipFill>
        <p:spPr>
          <a:xfrm>
            <a:off x="4861080" y="1844640"/>
            <a:ext cx="3816360" cy="36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Text Box 2"/>
          <p:cNvSpPr/>
          <p:nvPr/>
        </p:nvSpPr>
        <p:spPr>
          <a:xfrm>
            <a:off x="539640" y="1268280"/>
            <a:ext cx="8077320" cy="33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66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P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稍有下降，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HbO</a:t>
            </a:r>
            <a:r>
              <a:rPr b="1" lang="zh-CN" sz="2800" spc="-1" strike="noStrike" baseline="-2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释放大量的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zh-CN" sz="2800" spc="-1" strike="noStrike" baseline="-2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当组织活动加强时，耗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zh-CN" sz="2800" spc="-1" strike="noStrike" baseline="-2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量增多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P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=15mm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混合静脉血）氧饱和度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=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0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氧含量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44ml/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表明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动脉血流经组织时，释放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50 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供组织利用。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</a:rPr>
              <a:t>生理意义：组织耗氧量增加时，血液可释放更多的氧供组织需要。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影响氧解离曲线的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71" name="Picture 4" descr=""/>
          <p:cNvPicPr/>
          <p:nvPr/>
        </p:nvPicPr>
        <p:blipFill>
          <a:blip r:embed="rId1"/>
          <a:stretch/>
        </p:blipFill>
        <p:spPr>
          <a:xfrm>
            <a:off x="1042920" y="1989000"/>
            <a:ext cx="705816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血液的</a:t>
            </a:r>
            <a:r>
              <a:rPr b="1" lang="zh-CN" sz="2800" spc="-1" strike="noStrike">
                <a:solidFill>
                  <a:srgbClr val="1d1496"/>
                </a:solidFill>
                <a:latin typeface="Times New Roman"/>
                <a:ea typeface="宋体"/>
              </a:rPr>
              <a:t>pH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和</a:t>
            </a:r>
            <a:r>
              <a:rPr b="1" lang="zh-CN" sz="2800" spc="-1" strike="noStrike">
                <a:solidFill>
                  <a:srgbClr val="1d1496"/>
                </a:solidFill>
                <a:latin typeface="Times New Roman"/>
                <a:ea typeface="宋体"/>
              </a:rPr>
              <a:t>PCO</a:t>
            </a:r>
            <a:r>
              <a:rPr b="1" lang="zh-CN" sz="2800" spc="-1" strike="noStrike" baseline="-25000">
                <a:solidFill>
                  <a:srgbClr val="1d1496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↓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或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CO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↑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对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亲和力降低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曲线右移；反之，曲线左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酸度对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与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亲和力的影响称为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波尔效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Bohr effec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波尔效应的生理意义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促进肺毛细血管中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与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结合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有利于组织毛细血管释放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以满足组织代谢的  需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Text Box 2"/>
          <p:cNvSpPr/>
          <p:nvPr/>
        </p:nvSpPr>
        <p:spPr>
          <a:xfrm>
            <a:off x="-179280" y="569880"/>
            <a:ext cx="9144000" cy="54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4572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温度的影响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4572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温度↑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对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zh-CN" sz="2400" spc="-1" strike="noStrike" baseline="-20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亲和力降低，曲线右移，促使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zh-CN" sz="2400" spc="-1" strike="noStrike" baseline="-20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释；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4572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温度↓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对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O</a:t>
            </a:r>
            <a:r>
              <a:rPr b="1" lang="zh-CN" sz="2400" spc="-1" strike="noStrike" baseline="-20000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亲和力升高，曲线左移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zh-CN" sz="2400" spc="-1" strike="noStrike" baseline="-20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释放减少。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4572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4572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zh-CN" sz="2400" spc="-1" strike="noStrike">
                <a:solidFill>
                  <a:srgbClr val="1d1496"/>
                </a:solidFill>
                <a:latin typeface="Times New Roman"/>
                <a:ea typeface="宋体"/>
              </a:rPr>
              <a:t>2,3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二磷酸甘油酸（</a:t>
            </a:r>
            <a:r>
              <a:rPr b="1" lang="zh-CN" sz="2400" spc="-1" strike="noStrike">
                <a:solidFill>
                  <a:srgbClr val="1d1496"/>
                </a:solidFill>
                <a:latin typeface="Times New Roman"/>
                <a:ea typeface="宋体"/>
              </a:rPr>
              <a:t>2,3-DPG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4572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,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P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浓度↑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zh-CN" sz="2400" spc="-1" strike="noStrike" baseline="-20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亲和力降低，曲线右移，促使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4572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HbO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解离；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4572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,3-DP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浓度↓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zh-CN" sz="2400" spc="-1" strike="noStrike" baseline="-20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亲和力升高，曲线左移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zh-CN" sz="2400" spc="-1" strike="noStrike" baseline="-20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释放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4572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减少。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4572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</a:t>
            </a:r>
            <a:r>
              <a:rPr b="1" i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ff00"/>
                </a:solidFill>
                <a:latin typeface="宋体"/>
                <a:ea typeface="宋体"/>
              </a:rPr>
              <a:t>库存血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</a:t>
            </a:r>
            <a:r>
              <a:rPr b="1" i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</a:t>
            </a:r>
            <a:r>
              <a:rPr b="1" i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pic>
        <p:nvPicPr>
          <p:cNvPr id="274" name="Picture 6" descr="5"/>
          <p:cNvPicPr/>
          <p:nvPr/>
        </p:nvPicPr>
        <p:blipFill>
          <a:blip r:embed="rId1"/>
          <a:stretch/>
        </p:blipFill>
        <p:spPr>
          <a:xfrm>
            <a:off x="1547640" y="5445000"/>
            <a:ext cx="1081440" cy="93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nodeType="clickEffect" fill="hold">
                      <p:stCondLst>
                        <p:cond delay="0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ff0066"/>
                </a:solidFill>
                <a:latin typeface="宋体"/>
                <a:ea typeface="宋体"/>
              </a:rPr>
              <a:t>(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二</a:t>
            </a:r>
            <a:r>
              <a:rPr b="1" lang="en-US" sz="3200" spc="-1" strike="noStrike">
                <a:solidFill>
                  <a:srgbClr val="ff0066"/>
                </a:solidFill>
                <a:latin typeface="宋体"/>
                <a:ea typeface="宋体"/>
              </a:rPr>
              <a:t>)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肺泡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肺泡与呼吸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肺泡上皮细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Ⅰ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型细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Ⅱ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型细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7" name="Picture 4" descr="肺小叶模式图2"/>
          <p:cNvPicPr/>
          <p:nvPr/>
        </p:nvPicPr>
        <p:blipFill>
          <a:blip r:embed="rId1"/>
          <a:srcRect l="0" t="0" r="0" b="15337"/>
          <a:stretch/>
        </p:blipFill>
        <p:spPr>
          <a:xfrm>
            <a:off x="3637080" y="1701720"/>
            <a:ext cx="4930560" cy="41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Text Box 2"/>
          <p:cNvSpPr/>
          <p:nvPr/>
        </p:nvSpPr>
        <p:spPr>
          <a:xfrm>
            <a:off x="900000" y="189000"/>
            <a:ext cx="7704360" cy="8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二、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CO</a:t>
            </a:r>
            <a:r>
              <a:rPr b="1" lang="zh-CN" sz="3200" spc="-1" strike="noStrike" baseline="-25000">
                <a:solidFill>
                  <a:srgbClr val="ff0066"/>
                </a:solidFill>
                <a:latin typeface="Times New Roman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的运输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76" name="Rectangle 3"/>
          <p:cNvSpPr/>
          <p:nvPr/>
        </p:nvSpPr>
        <p:spPr>
          <a:xfrm>
            <a:off x="228600" y="1557360"/>
            <a:ext cx="9829800" cy="12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物理溶解</a:t>
            </a:r>
            <a:endParaRPr b="0" lang="en-US" sz="36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1" lang="zh-CN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的溶解的量约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1" lang="zh-CN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的总运输量的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77" name="Rectangle 4"/>
          <p:cNvSpPr/>
          <p:nvPr/>
        </p:nvSpPr>
        <p:spPr>
          <a:xfrm>
            <a:off x="0" y="4038480"/>
            <a:ext cx="627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Arial"/>
                <a:ea typeface="楷体_GB2312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化学结合</a:t>
            </a:r>
            <a:endParaRPr b="0" lang="en-US" sz="36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78" name="Rectangle 5"/>
          <p:cNvSpPr/>
          <p:nvPr/>
        </p:nvSpPr>
        <p:spPr>
          <a:xfrm>
            <a:off x="4142160" y="3192480"/>
            <a:ext cx="236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碳酸氢盐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8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％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79" name="Rectangle 6"/>
          <p:cNvSpPr/>
          <p:nvPr/>
        </p:nvSpPr>
        <p:spPr>
          <a:xfrm>
            <a:off x="3733920" y="4572000"/>
            <a:ext cx="369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氨基甲酰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H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％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80" name="AutoShape 7"/>
          <p:cNvSpPr/>
          <p:nvPr/>
        </p:nvSpPr>
        <p:spPr>
          <a:xfrm>
            <a:off x="3581280" y="3505320"/>
            <a:ext cx="152640" cy="1523880"/>
          </a:xfrm>
          <a:custGeom>
            <a:avLst/>
            <a:gdLst>
              <a:gd name="textAreaLeft" fmla="*/ 97560 w 152640"/>
              <a:gd name="textAreaRight" fmla="*/ 153000 w 15264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/>
          </p:nvPr>
        </p:nvSpPr>
        <p:spPr>
          <a:xfrm>
            <a:off x="304920" y="15760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碳酸氢盐形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82" name="Picture 4" descr=""/>
          <p:cNvPicPr/>
          <p:nvPr/>
        </p:nvPicPr>
        <p:blipFill>
          <a:blip r:embed="rId1"/>
          <a:stretch/>
        </p:blipFill>
        <p:spPr>
          <a:xfrm>
            <a:off x="1676520" y="2492280"/>
            <a:ext cx="5559480" cy="35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4"/>
          <p:cNvSpPr/>
          <p:nvPr/>
        </p:nvSpPr>
        <p:spPr>
          <a:xfrm>
            <a:off x="1219320" y="304920"/>
            <a:ext cx="693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宋体"/>
              </a:rPr>
              <a:t>第五节  呼吸运动的调节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84" name="Rectangle 9"/>
          <p:cNvSpPr/>
          <p:nvPr/>
        </p:nvSpPr>
        <p:spPr>
          <a:xfrm>
            <a:off x="304920" y="157644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、中枢神经性调节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一）脑干呼吸中枢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pic>
        <p:nvPicPr>
          <p:cNvPr id="285" name="Picture 10" descr=""/>
          <p:cNvPicPr/>
          <p:nvPr/>
        </p:nvPicPr>
        <p:blipFill>
          <a:blip r:embed="rId1"/>
          <a:stretch/>
        </p:blipFill>
        <p:spPr>
          <a:xfrm>
            <a:off x="4140360" y="1628640"/>
            <a:ext cx="4044960" cy="410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nodeType="clickEffect" fill="hold">
                      <p:stCondLst>
                        <p:cond delay="0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Text Box 2"/>
          <p:cNvSpPr/>
          <p:nvPr/>
        </p:nvSpPr>
        <p:spPr>
          <a:xfrm>
            <a:off x="900000" y="1409760"/>
            <a:ext cx="7775640" cy="415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</a:rPr>
              <a:t>平面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：在中脑和脑桥之间横切，呼吸无明显变化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</a:rPr>
              <a:t>平面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：在脑桥上、中部之间横切，呼吸将变慢变深，如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切断双侧迷走神经，则出现长吸式呼吸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</a:rPr>
              <a:t>平面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：脑桥和延髓之间横切，长吸式呼吸消失，出现喘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息样呼吸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</a:rPr>
              <a:t>4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</a:rPr>
              <a:t>平面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：在延髓和脊髓之间横切，呼吸运动停止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三级呼吸中枢理论：脑桥上部有呼吸调整中枢，中下部有长吸中枢，延髓有呼吸节律基本中枢。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Text Box 2"/>
          <p:cNvSpPr/>
          <p:nvPr/>
        </p:nvSpPr>
        <p:spPr>
          <a:xfrm>
            <a:off x="252360" y="2276640"/>
            <a:ext cx="853452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     ①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</a:rPr>
              <a:t>背侧呼吸组（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DRG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</a:rPr>
              <a:t>）：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在孤束核的腹外侧部，通过脊髓支配膈肌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②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腹侧呼吸组（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VRG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）：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疑核、后疑核及面神经后核附近的包钦格复合体，通过脊髓支配肋间内、外肌及腹肌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88" name="AutoShape 6"/>
          <p:cNvSpPr/>
          <p:nvPr/>
        </p:nvSpPr>
        <p:spPr>
          <a:xfrm>
            <a:off x="324000" y="981000"/>
            <a:ext cx="8458200" cy="1447920"/>
          </a:xfrm>
          <a:custGeom>
            <a:avLst/>
            <a:gdLst>
              <a:gd name="textAreaLeft" fmla="*/ 1930680 w 8458200"/>
              <a:gd name="textAreaRight" fmla="*/ 6527520 w 8458200"/>
              <a:gd name="textAreaTop" fmla="*/ 330480 h 1447920"/>
              <a:gd name="textAreaBottom" fmla="*/ 111744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延髓呼吸中枢（调节呼吸活动的基本中枢）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呼吸节律的形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90" name="Picture 4" descr=""/>
          <p:cNvPicPr/>
          <p:nvPr/>
        </p:nvPicPr>
        <p:blipFill>
          <a:blip r:embed="rId1"/>
          <a:stretch/>
        </p:blipFill>
        <p:spPr>
          <a:xfrm>
            <a:off x="1835280" y="1916280"/>
            <a:ext cx="5688000" cy="43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二、机械性反射调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一）肺牵张反射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ering-Breuer reflex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概念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肺牵张感受器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支气管和细支气管的平滑肌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刺激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牵拉刺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394920" y="1371600"/>
            <a:ext cx="8497800" cy="486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肺扩张反射：肺扩张时引起吸气抑制的反射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吸气    肺扩张    刺激了气道平滑肌的牵张感受器 ，冲动经迷走神经上传延髓 （吸气神经元抑制）   切断吸气       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肺缩小反射：肺萎陷到一定程度时反射性地引起吸气的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反射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ff0066"/>
                </a:solidFill>
                <a:latin typeface="宋体"/>
                <a:ea typeface="宋体"/>
              </a:rPr>
              <a:t>肺牵张反射的意义：阻止吸气过深过长，促使吸气转为呼气。呼吸频率增加，如果切断动物双侧迷走神经，将出现深而慢的呼吸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4" name="AutoShape 13"/>
          <p:cNvSpPr/>
          <p:nvPr/>
        </p:nvSpPr>
        <p:spPr>
          <a:xfrm>
            <a:off x="1979640" y="1989000"/>
            <a:ext cx="431640" cy="73080"/>
          </a:xfrm>
          <a:prstGeom prst="rightArrow">
            <a:avLst>
              <a:gd name="adj1" fmla="val 50000"/>
              <a:gd name="adj2" fmla="val 14766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95" name="AutoShape 13"/>
          <p:cNvSpPr/>
          <p:nvPr/>
        </p:nvSpPr>
        <p:spPr>
          <a:xfrm>
            <a:off x="3492360" y="1989000"/>
            <a:ext cx="432000" cy="73080"/>
          </a:xfrm>
          <a:prstGeom prst="rightArrow">
            <a:avLst>
              <a:gd name="adj1" fmla="val 50000"/>
              <a:gd name="adj2" fmla="val 147783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96" name="AutoShape 13"/>
          <p:cNvSpPr/>
          <p:nvPr/>
        </p:nvSpPr>
        <p:spPr>
          <a:xfrm>
            <a:off x="7093080" y="2421000"/>
            <a:ext cx="431640" cy="73080"/>
          </a:xfrm>
          <a:prstGeom prst="rightArrow">
            <a:avLst>
              <a:gd name="adj1" fmla="val 50000"/>
              <a:gd name="adj2" fmla="val 14766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三、化学反射性调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一）化学感受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Times New Roman"/>
                <a:ea typeface="宋体"/>
              </a:rPr>
              <a:t>1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外周化学感受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颈动脉体和主动脉体：感受血液中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CO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增多、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O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下降、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H+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升高浓度变化的刺激而兴奋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颈动脉体对呼吸的刺激作用约为主动脉体的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400" spc="-1" strike="noStrike">
                <a:solidFill>
                  <a:srgbClr val="1d1496"/>
                </a:solidFill>
                <a:latin typeface="Times New Roman"/>
                <a:ea typeface="宋体"/>
              </a:rPr>
              <a:t>2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中枢化学感受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延髓腹外侧浅表部位感受脑脊液中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H+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变化的刺激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特点：不感受缺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刺激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血中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H+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对其影响不大，因为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H+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难于通过血脑屏障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268280"/>
            <a:ext cx="854064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动脉血中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过低时，呼吸暂停。血液中维持一定浓度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进行正常呼吸活动的必要条件。</a:t>
            </a:r>
            <a:br>
              <a:rPr sz="2800"/>
            </a:b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吸入气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含量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0.04 %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%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肺通气量即可增加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肺通气量增加一倍；大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7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动脉血中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升高明显，呼吸兴奋肺通气量增大不足以排出血中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致使体内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增多，呼吸中枢抑制，头痛、头昏、昏迷的症状称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麻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0" name="Rectangle 15"/>
          <p:cNvSpPr/>
          <p:nvPr/>
        </p:nvSpPr>
        <p:spPr>
          <a:xfrm>
            <a:off x="1305000" y="228600"/>
            <a:ext cx="65358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（二）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CO</a:t>
            </a:r>
            <a:r>
              <a:rPr b="1" lang="zh-CN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对呼吸运动的影响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3" descr=""/>
          <p:cNvPicPr/>
          <p:nvPr/>
        </p:nvPicPr>
        <p:blipFill>
          <a:blip r:embed="rId1"/>
          <a:stretch/>
        </p:blipFill>
        <p:spPr>
          <a:xfrm>
            <a:off x="539640" y="1844640"/>
            <a:ext cx="8610840" cy="411480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3"/>
          <p:cNvSpPr/>
          <p:nvPr/>
        </p:nvSpPr>
        <p:spPr>
          <a:xfrm>
            <a:off x="684360" y="1486080"/>
            <a:ext cx="165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呼吸膜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Text Box 2"/>
          <p:cNvSpPr/>
          <p:nvPr/>
        </p:nvSpPr>
        <p:spPr>
          <a:xfrm>
            <a:off x="2651040" y="8082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02" name="Oval 3"/>
          <p:cNvSpPr/>
          <p:nvPr/>
        </p:nvSpPr>
        <p:spPr>
          <a:xfrm>
            <a:off x="684360" y="1341360"/>
            <a:ext cx="838080" cy="4907160"/>
          </a:xfrm>
          <a:prstGeom prst="ellipse">
            <a:avLst/>
          </a:prstGeom>
          <a:solidFill>
            <a:srgbClr val="ddb5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幼圆"/>
                <a:ea typeface="幼圆"/>
              </a:rPr>
              <a:t>CO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幼圆"/>
                <a:ea typeface="幼圆"/>
              </a:rPr>
              <a:t>2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幼圆"/>
                <a:ea typeface="幼圆"/>
              </a:rPr>
              <a:t>的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幼圆"/>
                <a:ea typeface="幼圆"/>
              </a:rPr>
              <a:t>两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幼圆"/>
                <a:ea typeface="幼圆"/>
              </a:rPr>
              <a:t>条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幼圆"/>
                <a:ea typeface="幼圆"/>
              </a:rPr>
              <a:t>作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幼圆"/>
                <a:ea typeface="幼圆"/>
              </a:rPr>
              <a:t>用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幼圆"/>
                <a:ea typeface="幼圆"/>
              </a:rPr>
              <a:t>途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幼圆"/>
                <a:ea typeface="幼圆"/>
              </a:rPr>
              <a:t>径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grpSp>
        <p:nvGrpSpPr>
          <p:cNvPr id="303" name="Group 4"/>
          <p:cNvGrpSpPr/>
          <p:nvPr/>
        </p:nvGrpSpPr>
        <p:grpSpPr>
          <a:xfrm>
            <a:off x="5460840" y="4437000"/>
            <a:ext cx="990360" cy="1750320"/>
            <a:chOff x="5460840" y="4437000"/>
            <a:chExt cx="990360" cy="1750320"/>
          </a:xfrm>
        </p:grpSpPr>
        <p:sp>
          <p:nvSpPr>
            <p:cNvPr id="304" name="Freeform 5"/>
            <p:cNvSpPr/>
            <p:nvPr/>
          </p:nvSpPr>
          <p:spPr>
            <a:xfrm>
              <a:off x="5460840" y="4437000"/>
              <a:ext cx="330120" cy="173736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1737360"/>
                <a:gd name="textAreaBottom" fmla="*/ 1737720 h 173736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9966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305" name="Freeform 6"/>
            <p:cNvSpPr/>
            <p:nvPr/>
          </p:nvSpPr>
          <p:spPr>
            <a:xfrm>
              <a:off x="5790960" y="4449960"/>
              <a:ext cx="330120" cy="173736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1737360"/>
                <a:gd name="textAreaBottom" fmla="*/ 1737720 h 173736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9966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306" name="Freeform 7"/>
            <p:cNvSpPr/>
            <p:nvPr/>
          </p:nvSpPr>
          <p:spPr>
            <a:xfrm>
              <a:off x="6121080" y="4449960"/>
              <a:ext cx="330120" cy="173736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1737360"/>
                <a:gd name="textAreaBottom" fmla="*/ 1737720 h 173736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9966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</p:grpSp>
      <p:grpSp>
        <p:nvGrpSpPr>
          <p:cNvPr id="307" name="Group 8"/>
          <p:cNvGrpSpPr/>
          <p:nvPr/>
        </p:nvGrpSpPr>
        <p:grpSpPr>
          <a:xfrm>
            <a:off x="3708360" y="5370480"/>
            <a:ext cx="1752120" cy="750600"/>
            <a:chOff x="3708360" y="5370480"/>
            <a:chExt cx="1752120" cy="750600"/>
          </a:xfrm>
        </p:grpSpPr>
        <p:sp>
          <p:nvSpPr>
            <p:cNvPr id="308" name="Freeform 9"/>
            <p:cNvSpPr/>
            <p:nvPr/>
          </p:nvSpPr>
          <p:spPr>
            <a:xfrm>
              <a:off x="3708360" y="5370480"/>
              <a:ext cx="584280" cy="745200"/>
            </a:xfrm>
            <a:custGeom>
              <a:avLst/>
              <a:gdLst>
                <a:gd name="textAreaLeft" fmla="*/ 0 w 584280"/>
                <a:gd name="textAreaRight" fmla="*/ 584640 w 584280"/>
                <a:gd name="textAreaTop" fmla="*/ 0 h 745200"/>
                <a:gd name="textAreaBottom" fmla="*/ 745560 h 74520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9966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309" name="Freeform 10"/>
            <p:cNvSpPr/>
            <p:nvPr/>
          </p:nvSpPr>
          <p:spPr>
            <a:xfrm>
              <a:off x="4292640" y="5375880"/>
              <a:ext cx="583560" cy="745200"/>
            </a:xfrm>
            <a:custGeom>
              <a:avLst/>
              <a:gdLst>
                <a:gd name="textAreaLeft" fmla="*/ 0 w 583560"/>
                <a:gd name="textAreaRight" fmla="*/ 583920 w 583560"/>
                <a:gd name="textAreaTop" fmla="*/ 0 h 745200"/>
                <a:gd name="textAreaBottom" fmla="*/ 745560 h 74520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9966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310" name="Freeform 11"/>
            <p:cNvSpPr/>
            <p:nvPr/>
          </p:nvSpPr>
          <p:spPr>
            <a:xfrm>
              <a:off x="4876200" y="5375880"/>
              <a:ext cx="584280" cy="745200"/>
            </a:xfrm>
            <a:custGeom>
              <a:avLst/>
              <a:gdLst>
                <a:gd name="textAreaLeft" fmla="*/ 0 w 584280"/>
                <a:gd name="textAreaRight" fmla="*/ 584640 w 584280"/>
                <a:gd name="textAreaTop" fmla="*/ 0 h 745200"/>
                <a:gd name="textAreaBottom" fmla="*/ 745560 h 74520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9966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</p:grpSp>
      <p:sp>
        <p:nvSpPr>
          <p:cNvPr id="311" name="Text Box 12"/>
          <p:cNvSpPr/>
          <p:nvPr/>
        </p:nvSpPr>
        <p:spPr>
          <a:xfrm>
            <a:off x="2446560" y="245052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宋体"/>
              </a:rPr>
              <a:t>中枢化学感受器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12" name="Rectangle 13"/>
          <p:cNvSpPr/>
          <p:nvPr/>
        </p:nvSpPr>
        <p:spPr>
          <a:xfrm>
            <a:off x="3132000" y="863640"/>
            <a:ext cx="3961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动脉血中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P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宋体"/>
              </a:rPr>
              <a:t>CO2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升高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13" name="Rectangle 14"/>
          <p:cNvSpPr/>
          <p:nvPr/>
        </p:nvSpPr>
        <p:spPr>
          <a:xfrm>
            <a:off x="3059280" y="2059560"/>
            <a:ext cx="50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d0000"/>
                </a:solidFill>
                <a:latin typeface="隶书"/>
                <a:ea typeface="隶书"/>
              </a:rPr>
              <a:t>H</a:t>
            </a:r>
            <a:r>
              <a:rPr b="1" lang="en-US" sz="2000" spc="-1" strike="noStrike" baseline="30000">
                <a:solidFill>
                  <a:srgbClr val="fd0000"/>
                </a:solidFill>
                <a:latin typeface="隶书"/>
                <a:ea typeface="隶书"/>
              </a:rPr>
              <a:t>+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14" name="Rectangle 15"/>
          <p:cNvSpPr/>
          <p:nvPr/>
        </p:nvSpPr>
        <p:spPr>
          <a:xfrm>
            <a:off x="6262920" y="237888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33"/>
                </a:solidFill>
                <a:latin typeface="Times New Roman"/>
              </a:rPr>
              <a:t>外周化学感受器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grpSp>
        <p:nvGrpSpPr>
          <p:cNvPr id="315" name="Group 16"/>
          <p:cNvGrpSpPr/>
          <p:nvPr/>
        </p:nvGrpSpPr>
        <p:grpSpPr>
          <a:xfrm>
            <a:off x="2971800" y="5475240"/>
            <a:ext cx="1752120" cy="564840"/>
            <a:chOff x="2971800" y="5475240"/>
            <a:chExt cx="1752120" cy="564840"/>
          </a:xfrm>
        </p:grpSpPr>
        <p:sp>
          <p:nvSpPr>
            <p:cNvPr id="316" name="Freeform 17"/>
            <p:cNvSpPr/>
            <p:nvPr/>
          </p:nvSpPr>
          <p:spPr>
            <a:xfrm>
              <a:off x="2971800" y="5475240"/>
              <a:ext cx="584280" cy="560880"/>
            </a:xfrm>
            <a:custGeom>
              <a:avLst/>
              <a:gdLst>
                <a:gd name="textAreaLeft" fmla="*/ 0 w 584280"/>
                <a:gd name="textAreaRight" fmla="*/ 584640 w 584280"/>
                <a:gd name="textAreaTop" fmla="*/ 0 h 560880"/>
                <a:gd name="textAreaBottom" fmla="*/ 561240 h 56088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317" name="Freeform 18"/>
            <p:cNvSpPr/>
            <p:nvPr/>
          </p:nvSpPr>
          <p:spPr>
            <a:xfrm>
              <a:off x="3556080" y="5479200"/>
              <a:ext cx="583560" cy="560880"/>
            </a:xfrm>
            <a:custGeom>
              <a:avLst/>
              <a:gdLst>
                <a:gd name="textAreaLeft" fmla="*/ 0 w 583560"/>
                <a:gd name="textAreaRight" fmla="*/ 583920 w 583560"/>
                <a:gd name="textAreaTop" fmla="*/ 0 h 560880"/>
                <a:gd name="textAreaBottom" fmla="*/ 561240 h 56088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318" name="Freeform 19"/>
            <p:cNvSpPr/>
            <p:nvPr/>
          </p:nvSpPr>
          <p:spPr>
            <a:xfrm>
              <a:off x="4139640" y="5479200"/>
              <a:ext cx="584280" cy="560880"/>
            </a:xfrm>
            <a:custGeom>
              <a:avLst/>
              <a:gdLst>
                <a:gd name="textAreaLeft" fmla="*/ 0 w 584280"/>
                <a:gd name="textAreaRight" fmla="*/ 584640 w 584280"/>
                <a:gd name="textAreaTop" fmla="*/ 0 h 560880"/>
                <a:gd name="textAreaBottom" fmla="*/ 561240 h 56088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</p:grpSp>
      <p:sp>
        <p:nvSpPr>
          <p:cNvPr id="319" name="Text Box 20"/>
          <p:cNvSpPr/>
          <p:nvPr/>
        </p:nvSpPr>
        <p:spPr>
          <a:xfrm>
            <a:off x="3635280" y="3357720"/>
            <a:ext cx="360072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d0000"/>
                </a:solidFill>
                <a:latin typeface="Arial"/>
              </a:rPr>
              <a:t>呼吸中枢兴奋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20" name="AutoShape 21"/>
          <p:cNvSpPr/>
          <p:nvPr/>
        </p:nvSpPr>
        <p:spPr>
          <a:xfrm>
            <a:off x="3635280" y="1484280"/>
            <a:ext cx="576360" cy="1008000"/>
          </a:xfrm>
          <a:prstGeom prst="downArrow">
            <a:avLst>
              <a:gd name="adj1" fmla="val 50000"/>
              <a:gd name="adj2" fmla="val 43723"/>
            </a:avLst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69696"/>
                </a:solidFill>
                <a:latin typeface="Arial"/>
              </a:rPr>
              <a:t>中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marL="343080" indent="-343080" algn="ctr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69696"/>
                </a:solidFill>
                <a:latin typeface="Arial"/>
              </a:rPr>
              <a:t>枢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21" name="AutoShape 22"/>
          <p:cNvSpPr/>
          <p:nvPr/>
        </p:nvSpPr>
        <p:spPr>
          <a:xfrm>
            <a:off x="6012000" y="1413000"/>
            <a:ext cx="576000" cy="1008000"/>
          </a:xfrm>
          <a:prstGeom prst="downArrow">
            <a:avLst>
              <a:gd name="adj1" fmla="val 50000"/>
              <a:gd name="adj2" fmla="val 43750"/>
            </a:avLst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69696"/>
                </a:solidFill>
                <a:latin typeface="Arial"/>
              </a:rPr>
              <a:t>外</a:t>
            </a: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  <a:p>
            <a:pPr marL="343080" indent="-343080"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69696"/>
                </a:solidFill>
                <a:latin typeface="Arial"/>
              </a:rPr>
              <a:t>周</a:t>
            </a: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22" name="Text Box 23"/>
          <p:cNvSpPr/>
          <p:nvPr/>
        </p:nvSpPr>
        <p:spPr>
          <a:xfrm>
            <a:off x="2916360" y="1413000"/>
            <a:ext cx="649080" cy="49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d0000"/>
                </a:solidFill>
                <a:latin typeface="Arial"/>
              </a:rPr>
              <a:t>CO</a:t>
            </a:r>
            <a:r>
              <a:rPr b="1" lang="en-US" sz="1800" spc="-1" strike="noStrike" baseline="-25000">
                <a:solidFill>
                  <a:srgbClr val="fd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23" name="AutoShape 24"/>
          <p:cNvSpPr/>
          <p:nvPr/>
        </p:nvSpPr>
        <p:spPr>
          <a:xfrm>
            <a:off x="3492360" y="1700280"/>
            <a:ext cx="216000" cy="576360"/>
          </a:xfrm>
          <a:custGeom>
            <a:avLst/>
            <a:gdLst>
              <a:gd name="textAreaLeft" fmla="*/ 28800 w 216000"/>
              <a:gd name="textAreaRight" fmla="*/ 187200 w 216000"/>
              <a:gd name="textAreaTop" fmla="*/ 100800 h 576360"/>
              <a:gd name="textAreaBottom" fmla="*/ 41796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w="38160">
            <a:solidFill>
              <a:srgbClr val="fd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24" name="Text Box 25"/>
          <p:cNvSpPr/>
          <p:nvPr/>
        </p:nvSpPr>
        <p:spPr>
          <a:xfrm>
            <a:off x="4140360" y="1628640"/>
            <a:ext cx="93636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d0000"/>
                </a:solidFill>
                <a:latin typeface="Arial"/>
              </a:rPr>
              <a:t>主要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25" name="Text Box 26"/>
          <p:cNvSpPr/>
          <p:nvPr/>
        </p:nvSpPr>
        <p:spPr>
          <a:xfrm>
            <a:off x="2268360" y="2997360"/>
            <a:ext cx="12956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669b"/>
                </a:solidFill>
                <a:latin typeface="Arial"/>
              </a:rPr>
              <a:t>时间延迟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26" name="AutoShape 27"/>
          <p:cNvSpPr/>
          <p:nvPr/>
        </p:nvSpPr>
        <p:spPr>
          <a:xfrm>
            <a:off x="3419640" y="2997360"/>
            <a:ext cx="1368360" cy="576000"/>
          </a:xfrm>
          <a:custGeom>
            <a:avLst/>
            <a:gdLst>
              <a:gd name="textAreaLeft" fmla="*/ 239400 w 1368360"/>
              <a:gd name="textAreaRight" fmla="*/ 992160 w 1368360"/>
              <a:gd name="textAreaTop" fmla="*/ 77040 h 576000"/>
              <a:gd name="textAreaBottom" fmla="*/ 498960 h 576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27" name="AutoShape 28"/>
          <p:cNvSpPr/>
          <p:nvPr/>
        </p:nvSpPr>
        <p:spPr>
          <a:xfrm>
            <a:off x="6732720" y="2924280"/>
            <a:ext cx="647640" cy="1081080"/>
          </a:xfrm>
          <a:custGeom>
            <a:avLst/>
            <a:gdLst>
              <a:gd name="textAreaLeft" fmla="*/ 86760 w 647640"/>
              <a:gd name="textAreaRight" fmla="*/ 560880 w 647640"/>
              <a:gd name="textAreaTop" fmla="*/ 189000 h 1081080"/>
              <a:gd name="textAreaBottom" fmla="*/ 78372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28" name="Text Box 29"/>
          <p:cNvSpPr/>
          <p:nvPr/>
        </p:nvSpPr>
        <p:spPr>
          <a:xfrm>
            <a:off x="6443640" y="1268280"/>
            <a:ext cx="2521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d0000"/>
                </a:solidFill>
                <a:latin typeface="Arial"/>
              </a:rPr>
              <a:t>作用去除，效应仅下降</a:t>
            </a:r>
            <a:r>
              <a:rPr b="1" lang="en-US" sz="2000" spc="-1" strike="noStrike">
                <a:solidFill>
                  <a:srgbClr val="fd0000"/>
                </a:solidFill>
                <a:latin typeface="Arial"/>
              </a:rPr>
              <a:t>20</a:t>
            </a:r>
            <a:r>
              <a:rPr b="1" lang="zh-CN" sz="2000" spc="-1" strike="noStrike">
                <a:solidFill>
                  <a:srgbClr val="fd0000"/>
                </a:solidFill>
                <a:latin typeface="Arial"/>
              </a:rPr>
              <a:t>％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29" name="AutoShape 30"/>
          <p:cNvSpPr/>
          <p:nvPr/>
        </p:nvSpPr>
        <p:spPr>
          <a:xfrm>
            <a:off x="4500720" y="4149720"/>
            <a:ext cx="142560" cy="863640"/>
          </a:xfrm>
          <a:prstGeom prst="downArrow">
            <a:avLst>
              <a:gd name="adj1" fmla="val 50000"/>
              <a:gd name="adj2" fmla="val 151452"/>
            </a:avLst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grpSp>
        <p:nvGrpSpPr>
          <p:cNvPr id="330" name="Group 31"/>
          <p:cNvGrpSpPr/>
          <p:nvPr/>
        </p:nvGrpSpPr>
        <p:grpSpPr>
          <a:xfrm>
            <a:off x="6443640" y="4437000"/>
            <a:ext cx="990360" cy="1750320"/>
            <a:chOff x="6443640" y="4437000"/>
            <a:chExt cx="990360" cy="1750320"/>
          </a:xfrm>
        </p:grpSpPr>
        <p:sp>
          <p:nvSpPr>
            <p:cNvPr id="331" name="Freeform 32"/>
            <p:cNvSpPr/>
            <p:nvPr/>
          </p:nvSpPr>
          <p:spPr>
            <a:xfrm>
              <a:off x="6443640" y="4437000"/>
              <a:ext cx="330120" cy="173736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1737360"/>
                <a:gd name="textAreaBottom" fmla="*/ 1737720 h 173736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9966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332" name="Freeform 33"/>
            <p:cNvSpPr/>
            <p:nvPr/>
          </p:nvSpPr>
          <p:spPr>
            <a:xfrm>
              <a:off x="6773760" y="4449960"/>
              <a:ext cx="330120" cy="173736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1737360"/>
                <a:gd name="textAreaBottom" fmla="*/ 1737720 h 173736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9966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333" name="Freeform 34"/>
            <p:cNvSpPr/>
            <p:nvPr/>
          </p:nvSpPr>
          <p:spPr>
            <a:xfrm>
              <a:off x="7103880" y="4449960"/>
              <a:ext cx="330120" cy="173736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1737360"/>
                <a:gd name="textAreaBottom" fmla="*/ 1737720 h 173736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9966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</p:grpSp>
      <p:grpSp>
        <p:nvGrpSpPr>
          <p:cNvPr id="334" name="Group 35"/>
          <p:cNvGrpSpPr/>
          <p:nvPr/>
        </p:nvGrpSpPr>
        <p:grpSpPr>
          <a:xfrm>
            <a:off x="7451640" y="4437000"/>
            <a:ext cx="990360" cy="1750320"/>
            <a:chOff x="7451640" y="4437000"/>
            <a:chExt cx="990360" cy="1750320"/>
          </a:xfrm>
        </p:grpSpPr>
        <p:sp>
          <p:nvSpPr>
            <p:cNvPr id="335" name="Freeform 36"/>
            <p:cNvSpPr/>
            <p:nvPr/>
          </p:nvSpPr>
          <p:spPr>
            <a:xfrm>
              <a:off x="7451640" y="4437000"/>
              <a:ext cx="330120" cy="173736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1737360"/>
                <a:gd name="textAreaBottom" fmla="*/ 1737720 h 173736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9966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336" name="Freeform 37"/>
            <p:cNvSpPr/>
            <p:nvPr/>
          </p:nvSpPr>
          <p:spPr>
            <a:xfrm>
              <a:off x="7781760" y="4449960"/>
              <a:ext cx="330120" cy="173736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1737360"/>
                <a:gd name="textAreaBottom" fmla="*/ 1737720 h 173736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9966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337" name="Freeform 38"/>
            <p:cNvSpPr/>
            <p:nvPr/>
          </p:nvSpPr>
          <p:spPr>
            <a:xfrm>
              <a:off x="8111880" y="4449960"/>
              <a:ext cx="330120" cy="173736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1737360"/>
                <a:gd name="textAreaBottom" fmla="*/ 1737720 h 173736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9966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</p:grp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37720" y="63324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（三）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H+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对呼吸运动的影响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动脉血中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]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呼吸加深加快      肺通气量增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中枢化学感受器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敏感性较外周化学感受器大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倍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透过血脑屏障的速度较慢，限制其作用。脑脊液中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]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才是中枢化学感受器的最有效的刺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0" name="AutoShape 4"/>
          <p:cNvSpPr/>
          <p:nvPr/>
        </p:nvSpPr>
        <p:spPr>
          <a:xfrm>
            <a:off x="3419640" y="1628640"/>
            <a:ext cx="360360" cy="73080"/>
          </a:xfrm>
          <a:prstGeom prst="rightArrow">
            <a:avLst>
              <a:gd name="adj1" fmla="val 50000"/>
              <a:gd name="adj2" fmla="val 123276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41" name="AutoShape 5"/>
          <p:cNvSpPr/>
          <p:nvPr/>
        </p:nvSpPr>
        <p:spPr>
          <a:xfrm>
            <a:off x="6659640" y="1628640"/>
            <a:ext cx="360360" cy="73080"/>
          </a:xfrm>
          <a:prstGeom prst="rightArrow">
            <a:avLst>
              <a:gd name="adj1" fmla="val 50000"/>
              <a:gd name="adj2" fmla="val 123276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42" name="Line 6"/>
          <p:cNvSpPr/>
          <p:nvPr/>
        </p:nvSpPr>
        <p:spPr>
          <a:xfrm flipV="1">
            <a:off x="3060720" y="1412640"/>
            <a:ext cx="0" cy="43164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nodeType="clickEffect" fill="hold">
                      <p:stCondLst>
                        <p:cond delay="0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2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2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2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2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2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2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2"/>
          <p:cNvSpPr/>
          <p:nvPr/>
        </p:nvSpPr>
        <p:spPr>
          <a:xfrm>
            <a:off x="457200" y="115920"/>
            <a:ext cx="8147160" cy="9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宋体"/>
              </a:rPr>
              <a:t>（四）缺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O</a:t>
            </a:r>
            <a:r>
              <a:rPr b="1" lang="en-US" sz="3200" spc="-1" strike="noStrike" baseline="-25000">
                <a:solidFill>
                  <a:srgbClr val="ff0066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</a:rPr>
              <a:t>对呼吸运动的影响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44" name="Text Box 3"/>
          <p:cNvSpPr/>
          <p:nvPr/>
        </p:nvSpPr>
        <p:spPr>
          <a:xfrm>
            <a:off x="0" y="1341360"/>
            <a:ext cx="9144000" cy="363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气中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</a:t>
            </a:r>
            <a:r>
              <a:rPr b="1" lang="en-US" sz="2800" spc="-1" strike="noStrike" baseline="-2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加深加快    肺通气量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仅当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</a:t>
            </a:r>
            <a:r>
              <a:rPr b="1" lang="en-US" sz="2800" spc="-1" strike="noStrike" baseline="-2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低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0mm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才有调节作用，对正常呼吸的调节作用不大。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</a:t>
            </a:r>
            <a:r>
              <a:rPr b="1" lang="en-US" sz="2800" spc="-1" strike="noStrike" baseline="-2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下降主要作用于外周化学感受器，缺氧对呼吸中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枢的直接作用是抑制。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当中枢化学感受器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1" lang="en-US" sz="2800" spc="-1" strike="noStrike" baseline="-2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产生适应时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</a:t>
            </a:r>
            <a:r>
              <a:rPr b="1" lang="en-US" sz="2800" spc="-1" strike="noStrike" baseline="-2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对外周化学感受器的刺激在呼吸调节上起重要作用。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45" name="Line 4"/>
          <p:cNvSpPr/>
          <p:nvPr/>
        </p:nvSpPr>
        <p:spPr>
          <a:xfrm>
            <a:off x="3276720" y="1557360"/>
            <a:ext cx="0" cy="3808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46" name="Line 5"/>
          <p:cNvSpPr/>
          <p:nvPr/>
        </p:nvSpPr>
        <p:spPr>
          <a:xfrm flipV="1">
            <a:off x="8388360" y="1486080"/>
            <a:ext cx="0" cy="3808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47" name="AutoShape 7"/>
          <p:cNvSpPr/>
          <p:nvPr/>
        </p:nvSpPr>
        <p:spPr>
          <a:xfrm>
            <a:off x="3492360" y="1701720"/>
            <a:ext cx="527040" cy="73080"/>
          </a:xfrm>
          <a:prstGeom prst="rightArrow">
            <a:avLst>
              <a:gd name="adj1" fmla="val 50000"/>
              <a:gd name="adj2" fmla="val 180296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48" name="AutoShape 8"/>
          <p:cNvSpPr/>
          <p:nvPr/>
        </p:nvSpPr>
        <p:spPr>
          <a:xfrm>
            <a:off x="6229440" y="1701720"/>
            <a:ext cx="527040" cy="73080"/>
          </a:xfrm>
          <a:prstGeom prst="rightArrow">
            <a:avLst>
              <a:gd name="adj1" fmla="val 50000"/>
              <a:gd name="adj2" fmla="val 180296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pic>
        <p:nvPicPr>
          <p:cNvPr id="349" name="Picture 9" descr="5"/>
          <p:cNvPicPr/>
          <p:nvPr/>
        </p:nvPicPr>
        <p:blipFill>
          <a:blip r:embed="rId1"/>
          <a:stretch/>
        </p:blipFill>
        <p:spPr>
          <a:xfrm>
            <a:off x="228600" y="5638680"/>
            <a:ext cx="1081080" cy="936720"/>
          </a:xfrm>
          <a:prstGeom prst="rect">
            <a:avLst/>
          </a:prstGeom>
          <a:ln w="0">
            <a:noFill/>
          </a:ln>
        </p:spPr>
      </p:pic>
      <p:sp>
        <p:nvSpPr>
          <p:cNvPr id="350" name="Rectangle 10"/>
          <p:cNvSpPr/>
          <p:nvPr/>
        </p:nvSpPr>
        <p:spPr>
          <a:xfrm>
            <a:off x="762120" y="5638680"/>
            <a:ext cx="53337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ff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ff00"/>
                </a:solidFill>
                <a:latin typeface="Times New Roman"/>
              </a:rPr>
              <a:t>为什么低氧时不能吸入纯氧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nodeType="clickEffect" fill="hold">
                      <p:stCondLst>
                        <p:cond delay="0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7" dur="2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0" dur="2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3" dur="2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6" dur="2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9" dur="2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2" dur="2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2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PCO</a:t>
            </a:r>
            <a:r>
              <a:rPr b="1" lang="en-US" sz="3200" spc="-1" strike="noStrike" baseline="-25000">
                <a:solidFill>
                  <a:srgbClr val="ff0066"/>
                </a:solidFill>
                <a:latin typeface="Times New Roman"/>
                <a:ea typeface="宋体"/>
              </a:rPr>
              <a:t>2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、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PO</a:t>
            </a:r>
            <a:r>
              <a:rPr b="1" lang="en-US" sz="3200" spc="-1" strike="noStrike" baseline="-25000">
                <a:solidFill>
                  <a:srgbClr val="ff0066"/>
                </a:solidFill>
                <a:latin typeface="Times New Roman"/>
                <a:ea typeface="宋体"/>
              </a:rPr>
              <a:t>2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 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和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pH</a:t>
            </a:r>
            <a:r>
              <a:rPr b="1" lang="en-US" sz="3200" spc="-1" strike="noStrike">
                <a:solidFill>
                  <a:srgbClr val="ff0066"/>
                </a:solidFill>
                <a:latin typeface="宋体"/>
                <a:ea typeface="宋体"/>
              </a:rPr>
              <a:t> 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之间的相互关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52" name="Picture 4" descr=""/>
          <p:cNvPicPr/>
          <p:nvPr/>
        </p:nvPicPr>
        <p:blipFill>
          <a:blip r:embed="rId1"/>
          <a:stretch/>
        </p:blipFill>
        <p:spPr>
          <a:xfrm>
            <a:off x="2405160" y="928800"/>
            <a:ext cx="4538520" cy="523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肺泡表面张力与表面活性物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球形肺泡的液－气界面所产生的表面张力的合力指向肺泡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1" name="Picture 4" descr="200571010217468"/>
          <p:cNvPicPr/>
          <p:nvPr/>
        </p:nvPicPr>
        <p:blipFill>
          <a:blip r:embed="rId1"/>
          <a:srcRect l="0" t="7812" r="0" b="10048"/>
          <a:stretch/>
        </p:blipFill>
        <p:spPr>
          <a:xfrm>
            <a:off x="2843280" y="3098880"/>
            <a:ext cx="3530520" cy="328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2"/>
          <p:cNvSpPr/>
          <p:nvPr/>
        </p:nvSpPr>
        <p:spPr>
          <a:xfrm>
            <a:off x="0" y="228600"/>
            <a:ext cx="9144000" cy="61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</a:rPr>
              <a:t>肺泡表面活性物质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(Pulmonary surfactant)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由肺泡</a:t>
            </a:r>
            <a:r>
              <a:rPr b="1" lang="en-US" sz="2800" spc="-1" strike="noStrike">
                <a:solidFill>
                  <a:srgbClr val="fd0000"/>
                </a:solidFill>
                <a:latin typeface="宋体"/>
              </a:rPr>
              <a:t>Ⅱ</a:t>
            </a:r>
            <a:r>
              <a:rPr b="1" lang="zh-CN" sz="2800" spc="-1" strike="noStrike">
                <a:solidFill>
                  <a:srgbClr val="fd0000"/>
                </a:solidFill>
                <a:latin typeface="宋体"/>
              </a:rPr>
              <a:t>型细胞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产生的二棕榈酰卵磷脂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作用：降低肺泡的表面张力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生理意义：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维持肺泡的稳定性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减少肺间质和肺泡内的组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织液生成，防止肺水肿发生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③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降低吸气阻力，增加肺的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顺应性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23" name="AutoShape 4"/>
          <p:cNvSpPr/>
          <p:nvPr/>
        </p:nvSpPr>
        <p:spPr>
          <a:xfrm>
            <a:off x="4952880" y="380880"/>
            <a:ext cx="4191120" cy="762120"/>
          </a:xfrm>
          <a:custGeom>
            <a:avLst/>
            <a:gdLst>
              <a:gd name="textAreaLeft" fmla="*/ 0 w 4191120"/>
              <a:gd name="textAreaRight" fmla="*/ 4191480 w 4191120"/>
              <a:gd name="textAreaTop" fmla="*/ 98640 h 762120"/>
              <a:gd name="textAreaBottom" fmla="*/ 663480 h 76212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pic>
        <p:nvPicPr>
          <p:cNvPr id="124" name="Picture 7" descr="肺表面活性物质"/>
          <p:cNvPicPr/>
          <p:nvPr/>
        </p:nvPicPr>
        <p:blipFill>
          <a:blip r:embed="rId1"/>
          <a:stretch/>
        </p:blipFill>
        <p:spPr>
          <a:xfrm>
            <a:off x="4932360" y="2349360"/>
            <a:ext cx="4033800" cy="2952720"/>
          </a:xfrm>
          <a:prstGeom prst="rect">
            <a:avLst/>
          </a:prstGeom>
          <a:ln w="0">
            <a:noFill/>
          </a:ln>
        </p:spPr>
      </p:pic>
      <p:sp>
        <p:nvSpPr>
          <p:cNvPr id="125" name="Line 8"/>
          <p:cNvSpPr/>
          <p:nvPr/>
        </p:nvSpPr>
        <p:spPr>
          <a:xfrm>
            <a:off x="6732720" y="4653000"/>
            <a:ext cx="215640" cy="216000"/>
          </a:xfrm>
          <a:prstGeom prst="line">
            <a:avLst/>
          </a:prstGeom>
          <a:ln w="38160">
            <a:solidFill>
              <a:srgbClr val="fd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26" name="Line 9"/>
          <p:cNvSpPr/>
          <p:nvPr/>
        </p:nvSpPr>
        <p:spPr>
          <a:xfrm flipH="1">
            <a:off x="6732360" y="4653000"/>
            <a:ext cx="215640" cy="216000"/>
          </a:xfrm>
          <a:prstGeom prst="line">
            <a:avLst/>
          </a:prstGeom>
          <a:ln w="38160">
            <a:solidFill>
              <a:srgbClr val="fd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宋体"/>
                <a:ea typeface="宋体"/>
              </a:rPr>
              <a:t>(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三</a:t>
            </a:r>
            <a:r>
              <a:rPr b="1" lang="en-US" sz="3200" spc="-1" strike="noStrike">
                <a:solidFill>
                  <a:srgbClr val="ff0066"/>
                </a:solidFill>
                <a:latin typeface="宋体"/>
                <a:ea typeface="宋体"/>
              </a:rPr>
              <a:t>)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胸廓和呼吸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143208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9" name="Picture 5" descr=""/>
          <p:cNvPicPr/>
          <p:nvPr/>
        </p:nvPicPr>
        <p:blipFill>
          <a:blip r:embed="rId1"/>
          <a:stretch/>
        </p:blipFill>
        <p:spPr>
          <a:xfrm>
            <a:off x="612720" y="1628640"/>
            <a:ext cx="2838600" cy="40957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6" descr="呼吸运动胸廓运动的变化"/>
          <p:cNvPicPr/>
          <p:nvPr/>
        </p:nvPicPr>
        <p:blipFill>
          <a:blip r:embed="rId2"/>
          <a:stretch/>
        </p:blipFill>
        <p:spPr>
          <a:xfrm>
            <a:off x="3997440" y="1557360"/>
            <a:ext cx="468000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0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3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mingzhe</cp:lastModifiedBy>
  <dcterms:modified xsi:type="dcterms:W3CDTF">2015-07-24T05:15:50Z</dcterms:modified>
  <cp:revision>128</cp:revision>
  <dc:subject/>
  <dc:title>内科护理学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